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E57-0D23-413D-ABB9-9C0578D5E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0816-D28F-41D8-A979-2BAB11425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B346-CA01-4117-9C1A-490E1CEDA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93C3-CA1E-48C3-8423-529112E73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F25C-AFDA-433A-8DDA-2D1C384BD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E39D-7CB3-4D92-BB65-74E8BAF9E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8622-B62B-4E2A-B175-C75B87B18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48BA-537C-48EE-8648-681A1529D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0547-4554-43A6-BB37-4F9B2AFEE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ADBB-9BE4-4393-98CB-6C4693287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EEBD-1E2D-4179-8759-805FE96ED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63C0-1071-4193-9A16-3A4C5B54A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B60-4724-4474-9A41-5F1C7DF1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ddons.mozilla.org/firefox/1563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weiterungen.de/searchplugin/" TargetMode="External"/><Relationship Id="rId2" Type="http://schemas.openxmlformats.org/officeDocument/2006/relationships/hyperlink" Target="http://opensearch.a9.com/" TargetMode="External"/><Relationship Id="rId3" Type="http://schemas.openxmlformats.org/officeDocument/2006/relationships/hyperlink" Target="http://searchplugins.net/" TargetMode="External"/><Relationship Id="rId4" Type="http://schemas.openxmlformats.org/officeDocument/2006/relationships/hyperlink" Target="http://www.firefox-browser.de/wiki/Searchplugins" TargetMode="External"/><Relationship Id="rId5" Type="http://schemas.openxmlformats.org/officeDocument/2006/relationships/hyperlink" Target="http://www.bonn-to-code.ne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ie/searchguide/de-de/default.m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earch Provider für FireFox und Internet Explorer 7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Jan Welk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o@jan-welk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otnet-snippet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ntfernen der Suchprovid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E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xtras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Internetoptione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Allgemei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uch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instellun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rweiterung „SearchPluginHacks“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s://addons.mozilla.org/firefox/1563/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stallieren und Kontextmenü nutz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uchmaschinen verwalten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18120" y="2708280"/>
            <a:ext cx="4025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iterführende 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Suchplugins für den Firefo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rweiterungen.de/searchplugin/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ensearch von A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opensearch.a9.com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Suchanbieter und Informa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searchplugins.net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Anleitung für 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firefox-browser.de/wiki/Searchplugins#Ab_Firefox_2.0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wnload der Demoprojek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bonn-to-code.n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Search Provider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net Explorer 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4038480" cy="215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9400" y="256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8560" y="2997360"/>
            <a:ext cx="41054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innvolle Erweiterungen zu dynamischen Webseiten die über eine Suchfunktion verfü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m suchen muss nicht vorher auf die Seite gewechsel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ach einem Suchbegriff kann schnell nacheinander auf verschiedenen Webseiten gesuch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künftiger Standard: Opensearch von A9.com (ab FF 2.0 und IE7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8606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9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 benötigt „MozSear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 muss manuell konfigur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m Suchprovider zur Websei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foo.com/default.aspx?query=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Bo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71960" y="3716280"/>
            <a:ext cx="818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rotected vo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age_Load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, EventArgs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 !=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uchbegriff = 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ponse.Write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Format(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Es wurde nach {0} gesucht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Suchbegrif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Opensearch –Provider erstellen</a:t>
            </a:r>
            <a:br>
              <a:rPr sz="28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(IE7 und FF2.0)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XM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?xm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version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9900ff"/>
                </a:solidFill>
                <a:latin typeface="Verdana"/>
              </a:rPr>
              <a:t>1.0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encodi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UTF-8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?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OpenSearchDescription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xmlns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a9.com/-/spec/opensearch/1.1/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ShortName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ShortName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Description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 Beschreibu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Description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Ur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text/html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emplat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.../default.aspx?query={searchTerms}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OpenSearchDescription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a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href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"#"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onclick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'</a:t>
            </a:r>
            <a:r>
              <a:rPr b="1" lang="de-DE" sz="1300" spc="-1" strike="noStrike">
                <a:solidFill>
                  <a:srgbClr val="cc00cc"/>
                </a:solidFill>
                <a:latin typeface="Verdana"/>
              </a:rPr>
              <a:t>window.external.AddSearchProvider("http://.../IE7Suche.xml</a:t>
            </a:r>
            <a:r>
              <a:rPr b="1" lang="de-DE" sz="1300" spc="-1" strike="noStrike">
                <a:solidFill>
                  <a:srgbClr val="9900ff"/>
                </a:solidFill>
                <a:latin typeface="Verdana"/>
              </a:rPr>
              <a:t>" );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'&gt;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uchplugin installieren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/a&gt;</a:t>
            </a:r>
            <a:r>
              <a:rPr b="1" lang="de-DE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lternative: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windows/ie/searchguide/de-de/default.mspx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92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891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1440" y="1700280"/>
            <a:ext cx="74898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Scr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11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="</a:t>
            </a:r>
            <a:r>
              <a:rPr b="1" sz="1100" spc="-1" strike="noStrike">
                <a:solidFill>
                  <a:srgbClr val="9900ff"/>
                </a:solidFill>
                <a:latin typeface="Verdana"/>
              </a:rPr>
              <a:t>text/java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&lt;!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function addEngin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if ((typeof window.sidebar == "object") &amp;&amp; (typeof window.sidebar.addSearchEngine == "function")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window.sidebar.addSearchEngine(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src"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png", "Firefox Suchplugin Demo", "Programming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alert("Sie benötigen Mozilla Firefox, um das Such-Plugin zu installieren.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/-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/scrip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5373720"/>
            <a:ext cx="7923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a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#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onclick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addEngine()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Klicken Sie hier, um das Plugin zu installieren.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133720"/>
            <a:ext cx="792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RC – 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SEARCH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descrip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method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GET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http://.../Default.aspx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INPUT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query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user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/SEARC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provider für Oper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840" y="17002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stellung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uc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8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an Welker</cp:lastModifiedBy>
  <dcterms:modified xsi:type="dcterms:W3CDTF">2007-01-15T21:09:16Z</dcterms:modified>
  <cp:revision>223</cp:revision>
  <dc:subject/>
  <dc:title>Slide 1</dc:title>
</cp:coreProperties>
</file>