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7B7E-A310-4770-94C5-AEB0176FF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765C-D881-4E38-A9EC-EC1869361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F522-D9E5-476F-A75C-40D5B5D2B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D47C-7117-4C28-8D77-49C5A5C73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5B38-A1CF-4D19-B0C6-AD2932BD1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054F-9024-4FC8-815B-B891B0A5B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0D44-2463-4A46-987E-9E7A82BA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D707-3888-4C4B-84C2-5D74181A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1ADE-6E60-4A8A-8652-FDB6FF559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4989-0AA9-4895-82F1-A1AF8D040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F99C-AE03-4484-A679-A10581082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8E81-6F2E-4E22-A966-8FC312D36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C4C-75C1-4323-952B-59BC20501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ddons.mozilla.org/firefox/1563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weiterungen.de/searchplugin/" TargetMode="External"/><Relationship Id="rId2" Type="http://schemas.openxmlformats.org/officeDocument/2006/relationships/hyperlink" Target="http://opensearch.a9.com/" TargetMode="External"/><Relationship Id="rId3" Type="http://schemas.openxmlformats.org/officeDocument/2006/relationships/hyperlink" Target="http://searchplugins.net/" TargetMode="External"/><Relationship Id="rId4" Type="http://schemas.openxmlformats.org/officeDocument/2006/relationships/hyperlink" Target="http://www.firefox-browser.de/wiki/Searchplugins" TargetMode="External"/><Relationship Id="rId5" Type="http://schemas.openxmlformats.org/officeDocument/2006/relationships/hyperlink" Target="http://www.bonn-to-code.ne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ie/searchguide/de-de/default.m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earch Provider für FireFox und Internet Explorer 7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Jan Welk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o@jan-welk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otnet-snippet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ntfernen der Suchprovid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E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xtras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Internetoptione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Allgemei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uch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instellun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rweiterung „SearchPluginHacks“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s://addons.mozilla.org/firefox/1563/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stallieren und Kontextmenü nutz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uchmaschinen verwalten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18120" y="2708280"/>
            <a:ext cx="4025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iterführende 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Suchplugins für den Firefo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rweiterungen.de/searchplugin/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ensearch von A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opensearch.a9.com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Suchanbieter und Informa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searchplugins.net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Anleitung für 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firefox-browser.de/wiki/Searchplugins#Ab_Firefox_2.0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wnload der Demoprojek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bonn-to-code.n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Search Provider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net Explorer 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4038480" cy="215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9400" y="256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8560" y="2997360"/>
            <a:ext cx="41054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innvolle Erweiterungen zu dynamischen Webseiten die über eine Suchfunktion verfü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m suchen muss nicht vorher auf die Seite gewechsel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ach einem Suchbegriff kann schnell nacheinander auf verschiedenen Webseiten gesuch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künftiger Standard: Opensearch von A9.com (ab FF 2.0 und IE7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8606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9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 benötigt „MozSear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 muss manuell konfigur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m Suchprovider zur Websei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foo.com/default.aspx?query=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Bo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71960" y="3716280"/>
            <a:ext cx="818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rotected vo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age_Load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, EventArgs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 !=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uchbegriff = 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ponse.Write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Format(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Es wurde nach {0} gesucht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Suchbegrif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Opensearch –Provider erstellen</a:t>
            </a:r>
            <a:br>
              <a:rPr sz="28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(IE7 und FF2.0)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XM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?xm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version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9900ff"/>
                </a:solidFill>
                <a:latin typeface="Verdana"/>
              </a:rPr>
              <a:t>1.0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encodi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UTF-8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?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OpenSearchDescription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xmlns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a9.com/-/spec/opensearch/1.1/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ShortName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ShortName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Description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 Beschreibu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Description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Ur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text/html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emplat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.../default.aspx?query={searchTerms}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OpenSearchDescription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a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href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"#"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onclick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'</a:t>
            </a:r>
            <a:r>
              <a:rPr b="1" lang="de-DE" sz="1300" spc="-1" strike="noStrike">
                <a:solidFill>
                  <a:srgbClr val="cc00cc"/>
                </a:solidFill>
                <a:latin typeface="Verdana"/>
              </a:rPr>
              <a:t>window.external.AddSearchProvider("http://.../IE7Suche.xml</a:t>
            </a:r>
            <a:r>
              <a:rPr b="1" lang="de-DE" sz="1300" spc="-1" strike="noStrike">
                <a:solidFill>
                  <a:srgbClr val="9900ff"/>
                </a:solidFill>
                <a:latin typeface="Verdana"/>
              </a:rPr>
              <a:t>" );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'&gt;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uchplugin installieren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/a&gt;</a:t>
            </a:r>
            <a:r>
              <a:rPr b="1" lang="de-DE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lternative: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windows/ie/searchguide/de-de/default.mspx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92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891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1440" y="1700280"/>
            <a:ext cx="74898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Scr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11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="</a:t>
            </a:r>
            <a:r>
              <a:rPr b="1" sz="1100" spc="-1" strike="noStrike">
                <a:solidFill>
                  <a:srgbClr val="9900ff"/>
                </a:solidFill>
                <a:latin typeface="Verdana"/>
              </a:rPr>
              <a:t>text/java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&lt;!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function addEngin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if ((typeof window.sidebar == "object") &amp;&amp; (typeof window.sidebar.addSearchEngine == "function")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window.sidebar.addSearchEngine(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src"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png", "Firefox Suchplugin Demo", "Programming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alert("Sie benötigen Mozilla Firefox, um das Such-Plugin zu installieren.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/-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/scrip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5373720"/>
            <a:ext cx="7923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a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#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onclick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addEngine()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Klicken Sie hier, um das Plugin zu installieren.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133720"/>
            <a:ext cx="792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RC – 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SEARCH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descrip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method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GET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http://.../Default.aspx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INPUT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query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user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/SEARC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provider für Oper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840" y="17002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stellung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uc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8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an Welker</cp:lastModifiedBy>
  <dcterms:modified xsi:type="dcterms:W3CDTF">2007-01-15T21:09:16Z</dcterms:modified>
  <cp:revision>223</cp:revision>
  <dc:subject/>
  <dc:title>Slide 1</dc:title>
</cp:coreProperties>
</file>