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AD81-748A-498E-B2B0-954250749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paar Worte vorw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r Vortrag ist im Rahmen einer Evaluierung entstanden und stützt sich nicht auf intensive Praxiserfah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e Punkte wurde nur der Vollständigkeit halber aus der Doku aufgen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A792-A83E-48E4-95A5-2E0AFEE45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2A7D-5D31-414A-9B82-13408F8E8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4B61-24B4-44E0-8620-55B62D0AC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90F7-D387-4934-91CB-4C6834B2D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72CD-A8BD-4918-B2B8-13F733381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1AE6-057F-4A11-9020-6CF69EBE3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5298-4611-430E-8F3F-900CD6D3B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7AD1-2359-4C89-A58A-D68216CEB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C0C6-70F7-4972-BF82-5ED1DDC55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22C8-E553-4CC8-94FA-B0198E157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CE1C-ABD0-43AC-B8F4-A68495EB5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FB5D-D063-4FA3-AF6F-A4D0CA8C8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BD13-A3F9-4866-9E3B-5157B8D0A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racle.com/technology/pub/articles/mastering_dotnet_oracle/williams_sps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31102.aspx" TargetMode="External"/><Relationship Id="rId2" Type="http://schemas.openxmlformats.org/officeDocument/2006/relationships/hyperlink" Target="http://msdn2.microsoft.com/en-us/library/ms131102.aspx" TargetMode="External"/><Relationship Id="rId3" Type="http://schemas.openxmlformats.org/officeDocument/2006/relationships/hyperlink" Target="http://msdn2.microsoft.com/en-us/library/ms131102.aspx" TargetMode="External"/><Relationship Id="rId4" Type="http://schemas.openxmlformats.org/officeDocument/2006/relationships/hyperlink" Target="http://msdn.microsoft.com/sql/learning/prog/clr/default.aspx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R Integration im 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 SQL Server 2005 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2.09.2006 –  Sascha Lehma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ascha.Lehmann@comma-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3: Event Log as Tab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cherheitsmodel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tenbankoptio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ermiss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icherheitsmodel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 allem wacht die Code Access Secur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ben Machine- und User Policy nun auch noch Host Policy je Assembly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semblies können in drei Modellen registri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ur interne Berechnungen, Zugriff auf lokale Da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ein State, keine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static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TERNAL_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externe Ressourcen wie Dateien, Registry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SA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unmanaged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ploym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LR Integration muss explizit pro Server Instanz aktivi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sp_configure 'clr enabled', 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econfigur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le Assemblies können vom Client aus im Server installiert werd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REATE ASSEMBLY 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aussetzung für Assemblies mit Permission Set EXTERNAL_ACCESS bzw. UNSAF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Owner benötigt External / Unsafe Assembly Permis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ahoma"/>
              </a:rPr>
              <a:t>ALTER DATABASE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sz="1400" spc="-1" strike="noStrike">
                <a:solidFill>
                  <a:srgbClr val="000000"/>
                </a:solidFill>
                <a:latin typeface="Tahoma"/>
              </a:rPr>
              <a:t> SET TRUSTWORTHY ON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ide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rrelation zwischen SQL Server Integration und den in .NET 2.0 hinzugekommenen Hosting API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Oracle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und DB/2 bieten ebenfalls CLR Integ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SQL Server </a:t>
            </a: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Books</a:t>
            </a: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 On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MSDN On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heißt CLR Integratio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nutzerdefinierter Code kann nun i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Managed Cod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t werde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s umfasst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ored Procedur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igger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Datentyp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Funktionen (skalar und tabellenwerti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Aggregationsfunk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orte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teile von managed Code gegenüber T-SQL bzw. Extended Stored Procedure in native C(++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wohnt mächtige Programmierspr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wohnt mächtige Entwicklungsumgeb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ilweise deutlich besser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chere Laufzeitumgebung (Sandbo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öglichkeit Aggregationsfunktionen zu definier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1: Modulo2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ung einer Funktion, die den Rest einer Division durch 2 berechne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C#: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turn (i % 2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: 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elect * from Numbers where dbo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odulo2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d) = 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 Demo 1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ject Type „Database/SQL Server Project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d User-Defined Fun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plo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# Syntax für UDF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2: SplitCSStr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ung einer Funktion, die einen kommaseparierten String in eine Tabelle zerleg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C#: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ring.Split(','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lect * From SplitCSString('A;B;C;D') lief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56720" y="3141720"/>
            <a:ext cx="8190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2: SplitCSStr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ble Valued Function (TVF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blematik Datentyp tex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taAccessKind.Rea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ntext-Conn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 UDF bisher leider nicht innerhalb der FillRow-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erformanc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 einem 3 GHz Rechner wurden folgende Werte gemess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verhead pro Aufruf (Modulo2) &lt; 1 µ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litCSString gegen T-SQL Variante 200 ms statt 18 sec bei 120k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3: Event Log as Tab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s Event-Log des lokalen Rechners als Tabelle ausgeben. (Bsp. aus SQL Books On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Sascha Lehmann</cp:lastModifiedBy>
  <dcterms:modified xsi:type="dcterms:W3CDTF">2006-09-11T19:44:19Z</dcterms:modified>
  <cp:revision>238</cp:revision>
  <dc:subject/>
  <dc:title>Slide 1</dc:title>
</cp:coreProperties>
</file>