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ED84-2054-4A5A-95AE-A2E065E4F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 paar Worte vorw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r Vortrag ist im Rahmen einer Evaluierung entstanden und stützt sich nicht auf intensive Praxiserfahr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e Punkte wurde nur der Vollständigkeit halber aus der Doku aufgen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4F77-5CC2-43A1-9B02-24DAFF19E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5471-9077-4DFA-9414-D60558C16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DAD1-A177-4EDC-9616-628DE4BF4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DD72-855F-422B-B2A9-06A1992B7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390D1-339B-45B4-909C-14C67B68C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DBD5-DDD7-4C99-B433-9C7C44BBC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8C31-C9E7-4FEE-9419-493BAA9E0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F6FA-BF84-4600-88B8-D14DB8870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52FA-5D6E-477B-B1AD-90CE5352B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CC0A-6C5E-452E-9943-15F89F104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28FF-4D1E-4F85-BFF4-B564B0DB7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15B9-57BA-4A34-8BFA-FFA613215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B846-8419-4F52-A7CC-9F2BCB79F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oracle.com/technology/pub/articles/mastering_dotnet_oracle/williams_sps.html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ms131102.aspx" TargetMode="External"/><Relationship Id="rId2" Type="http://schemas.openxmlformats.org/officeDocument/2006/relationships/hyperlink" Target="http://msdn2.microsoft.com/en-us/library/ms131102.aspx" TargetMode="External"/><Relationship Id="rId3" Type="http://schemas.openxmlformats.org/officeDocument/2006/relationships/hyperlink" Target="http://msdn2.microsoft.com/en-us/library/ms131102.aspx" TargetMode="External"/><Relationship Id="rId4" Type="http://schemas.openxmlformats.org/officeDocument/2006/relationships/hyperlink" Target="http://msdn.microsoft.com/sql/learning/prog/clr/default.aspx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LR Integration im </a:t>
            </a:r>
            <a:br>
              <a:rPr sz="3200"/>
            </a:b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S SQL Server 2005 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2.09.2006 –  Sascha Lehman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ascha.Lehmann@comma-sof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3: Event Log as Tab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icherheitsmodel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tenbankoptio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ermiss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icherheitsmodel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Über allem wacht die Code Access Secur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eben Machine- und User Policy nun auch noch Host Policy je Assembly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ssemblies können in drei Modellen registrier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ur interne Berechnungen, Zugriff auf lokale Da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ein State, keine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static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TERNAL_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griff auf externe Ressourcen wie Dateien, Registry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SA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griff auf unmanaged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ploymen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LR Integration muss explizit pro Server Instanz aktivier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sp_configure 'clr enabled', 1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reconfigur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le Assemblies können vom Client aus im Server installiert werd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CREATE ASSEMBLY 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aussetzung für Assemblies mit Permission Set EXTERNAL_ACCESS bzw. UNSAF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Owner benötigt External / Unsafe Assembly Permis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ahoma"/>
              </a:rPr>
              <a:t>ALTER DATABASE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sz="1400" spc="-1" strike="noStrike">
                <a:solidFill>
                  <a:srgbClr val="000000"/>
                </a:solidFill>
                <a:latin typeface="Tahoma"/>
              </a:rPr>
              <a:t> SET TRUSTWORTHY ON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ide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rrelation zwischen SQL Server Integration und den in .NET 2.0 hinzugekommenen Hosting API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Oracle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und DB/2 bieten ebenfalls CLR Integ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Qu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SQL Server </a:t>
            </a: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Books</a:t>
            </a: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 Onli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MSDN Onli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ragen</a:t>
            </a: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heißt CLR Integratio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nutzerdefinierter Code kann nun in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Managed Cod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plementiert werden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ies umfasst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ored Procedur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igger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definierte Datentyp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definierte Funktionen (skalar und tabellenwerti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definierte Aggregationsfunktio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ortei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teile von managed Code gegenüber T-SQL bzw. Extended Stored Procedure in native C(++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wohnt mächtige Programmierspr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wohnt mächtige Entwicklungsumgeb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ilweise deutlich besser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chere Laufzeitumgebung (Sandbo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öglichkeit Aggregationsfunktionen zu definier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1: Modulo2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plementierung einer Funktion, die den Rest einer Division durch 2 berechne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 C#: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turn (i % 2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iel: 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Select * from Numbers where dbo.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odulo2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id) = 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sammenfassung Demo 1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ual Studio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ject Type „Database/SQL Server Project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d User-Defined Function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plo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# Syntax für UDF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2: SplitCSStr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plementierung einer Funktion, die einen kommaseparierten String in eine Tabelle zerleg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 C#: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ring.Split(','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iel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elect * From SplitCSString('A;B;C;D') liefe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956720" y="3141720"/>
            <a:ext cx="8190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2: SplitCSStr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able Valued Function (TVF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blematik Datentyp tex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taAccessKind.Rea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ontext-Conn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 UDF bisher leider nicht innerhalb der FillRow-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erformanc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 einem 3 GHz Rechner wurden folgende Werte gemess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verhead pro Aufruf (Modulo2) &lt; 1 µ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plitCSString gegen T-SQL Variante 200 ms statt 18 sec bei 120k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3: Event Log as Tab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s Event-Log des lokalen Rechners als Tabelle ausgeben. (Bsp. aus SQL Books Onlin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Sascha Lehmann</cp:lastModifiedBy>
  <dcterms:modified xsi:type="dcterms:W3CDTF">2006-09-11T19:44:19Z</dcterms:modified>
  <cp:revision>238</cp:revision>
  <dc:subject/>
  <dc:title>Slide 1</dc:title>
</cp:coreProperties>
</file>