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A731-5420-4010-A415-F86E011C6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1BCE-F0F7-4CA2-AD9D-21985EAF0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4EF3-ED33-4135-8ED7-9099A04F0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B4C2-5A1D-4C77-90CA-89637521D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A526-3B83-4DC0-B565-48F80BB5E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9BE0-1F04-4B07-A15E-2F4C7235F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B6C2-95F3-4DE4-AE1E-9D5BACBC0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321E-CE8B-407E-BB2F-BD208762D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1DBA-238D-4C52-9DD6-1E42B1A30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AE16-DB8C-473A-A785-C2AB969A4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217B-271C-4CDC-B6B5-B15F7DA9E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29FD-E188-4883-8768-81A4DAC36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DDC3-8027-4130-9DB1-5F5806B59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tipp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- / 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9.08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tzen und Entfer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etzen/Entfernen via F9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Via Breakpoint Window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(Alt + F9 oder Menü "Debug\Windows\Breakpoints" 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lick auf den "Punkt" bzw. graue Leiste am linken Rand des Sourceco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npassen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ontextmenü auf "Punkt" in grauer Leist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swählen des Breakpoints im Breakpoint Window + Kontextmen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e Anpass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dingung </a:t>
            </a: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(nicht in Express-Editionen)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erfüllt sei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sich änder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it Cou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= einem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ein vielfaches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&gt;=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s kann ein Filter spezifiziert werden, der beschreibt wann der Breakpoint anschlagen soll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ierfür stehen u.a. virtuelle Variablen für ProcessId, ProcessName, ThreadId, ThreadName und MachineNam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.h. man kann einen Breakpoint einrichten, der nur in einem Thread zuschläg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n den Breakpoint - Eigenschaften "When Breakpoint Is Hit"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olgendes kann eingestellt werden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"Print a message" = Tracepoi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an kann Variablen, Ausdrücke und spezielle virtuelle Variablen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$FUNCTION, $CALLER, $CALLSTACK, Process/Thread-ID's und –Na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uf der Standardausgabe (TRACE) ausgeben lassen ohne den Code zu modifizier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Run a macro"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kann ein bel. Macro ausgeführt wer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Continue execu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wird nicht angehalten, sondern weiter ausgefüh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8-19T06:45:05Z</dcterms:modified>
  <cp:revision>252</cp:revision>
  <dc:subject/>
  <dc:title>Einführung in MS Build</dc:title>
</cp:coreProperties>
</file>