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29889-109E-48EE-9688-BD2296472B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34D6B-3DAF-4043-BF09-D5CBAEA91E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78C63-11EA-4DB6-8543-C6CDD0BC8C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84EC4-2709-445E-9B94-33301BA56F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C17A8-9A79-4E0C-906C-E1982A2394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47DFC-45B2-465C-A183-49DD8F8D83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A93E46-21BF-4D56-884D-2E8E807995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64775-0EFA-4A72-8900-877A02DA61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75B41-41CC-4021-8245-EA86A79051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E74A0-D271-44F7-B191-13BDE3874A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5CE9C-F6E2-41CC-A051-624446C9EA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E31DC-954A-4E00-8A0F-E3E6A04A97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700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700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EA459-B6DE-4079-B819-9B4FA54F2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95152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mail@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Web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ww.roland-weigelt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Blog: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http://weblogs.asp.net/rweigel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gotdotnet.com/workspaces/workspace.aspx?id=6b1aceda-e613-4dac-beeb-0cd8ad8f2d41" TargetMode="External"/><Relationship Id="rId2" Type="http://schemas.openxmlformats.org/officeDocument/2006/relationships/hyperlink" Target="http://www.gotdotnet.com/workspaces/workspace.aspx?id=6b1aceda-e613-4dac-beeb-0cd8ad8f2d41" TargetMode="External"/><Relationship Id="rId3" Type="http://schemas.openxmlformats.org/officeDocument/2006/relationships/hyperlink" Target="http://www.gotdotnet.com/workspaces/workspace.aspx?id=6b1aceda-e613-4dac-beeb-0cd8ad8f2d41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Visual Studio Extensibility:</a:t>
            </a:r>
            <a:br>
              <a:rPr sz="3600"/>
            </a:b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22.8.2006 –  Roland Weige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 der Praxi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40840" indent="-2408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anuelle Installation: ZIP-Datei kopi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chreckt aber sicherlich bestimmte Anwender a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orteil für Profis: Erster Blick in das Template (und seine Qualität) ohne Installation mögli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40840" indent="-2408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stallation über V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SI: (umbenanntes) ZIP, enthält Template sowie XML für Metada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0200" indent="-2397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arnung, wenn nicht signi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7000" indent="-2523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sual Studio Content Installer Power Toy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2"/>
              </a:rPr>
              <a:t>www.gotdotnet.com/workspaces/workspace.aspx?id</a:t>
            </a:r>
            <a:r>
              <a:rPr b="0" lang="en-US" sz="2400" spc="-1" strike="noStrike" u="sng">
                <a:solidFill>
                  <a:srgbClr val="333399"/>
                </a:solidFill>
                <a:uFillTx/>
                <a:latin typeface="Tahoma"/>
                <a:hlinkClick r:id="rId3"/>
              </a:rPr>
              <a:t>=6b1aceda-e613-4dac-beeb-0cd8ad8f2d4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0200" indent="-23976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ower Toy nicht 100%ig überzeugend, aber ok für Einsti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 der Praxi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Klassisch: Installation über M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"My Documents" ist im Setup bekan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vtl. "professionelleres" Ausseh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ehr Möglichkei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übliche MSI-Featu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gener Code in Installer-Klas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emplate er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ter Blick in die ZIP-Dat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VSTemplate Version="2.0.0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xmlns="http://schemas.microsoft.com/developer/vstemplate/2005"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ype="Item"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TemplateData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DefaultName&gt;MyTemplate.cs&lt;/Default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Name&gt;MyTemplate&lt;/Nam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Description&gt;This is the description of the template&lt;/Descripti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ProjectType&gt;CSharp&lt;/ProjectType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SortOrder&gt;10&lt;/SortOrd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Icon&gt;__TemplateIcon.ico&lt;/Icon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/TemplateData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References 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ProjectItem SubType="Code" TargetFileName="$fileinputname$.cs"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placeParameters="true"&gt;DemoFile.cs&lt;/ProjectItem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&lt;/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VSTemplat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Metadat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TemplateData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hauptsächlich Infos für Auswahldialo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TemplateContent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lche Assemblies werden benötig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eispiel: TestFixture für N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elche Dateien werden hinzugefügt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&lt;ProjectIte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schreibung einer einzelnen Date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2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Beschreibung aller Tags in der MSDN Library unter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"Visual Studio Template Schema Reference"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.Collections.Generic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sing System.Tex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amespace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rootnamespace$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/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lass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Initializes a new instance of the &lt;see cref="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"/&gt; clas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/// &lt;/summary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ublic 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$safeitemname$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etzung muss explizit aktiviert werd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ProjectItem ... ReplaceParameters="true"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tichwort "Template Parameters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rgegebe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item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akt wie angegeb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safeitem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als Identifier geeig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project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exakt wie angegebe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safeprojectna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als Identifier geeigne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rootnamespac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orgegebene Template-Parameter (Forts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clrversio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1$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2$</a:t>
            </a: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, ... 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GUID10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machinenam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registeredorganizatio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$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ime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DD/MM/YYYY 00:00:0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userdomain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username$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$year$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YYY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sätzlich: Eigene Parame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öglichkeit 1 (statisch): Custom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emplateContent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..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CustomParameter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&lt;CustomParameter Name="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$MyParameter1$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 Value="MyValue1"/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&lt;CustomParameter Name="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$MyParameter2$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" Value="MyValue2"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&lt;/CustomParameters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emplateCont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wendungsfall: Ein Template in verschiedenen, leicht unterschiedlichen Variation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Möglichkeit 2 (dynamisch): Wiz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n diesem Zusammenhang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zard == C#-Klasse, die IWizard implementi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space Microsoft.VisualStudio.TemplateWiz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ssembly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crosoft.VisualStudio.TemplateWizard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Nicht notwendigerweise GUI involvier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ugriff auf Visual Studio über Automation (EnvDTE.DTE) möglich d.h. Zugriff auf Projekte, Settings, Dateien, etc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auch für "Wizards" ohne GUI interess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genda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Grundlag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rstellen eigener Item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zards für komplexere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62080" indent="-26208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ichtig in IWizard für Item Templ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c void RunStarted(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object automationObject,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Dictionary&lt;string, string&gt; replacementsDictionary,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WizardRunKind runKind,</a:t>
            </a:r>
            <a:br>
              <a:rPr sz="2400"/>
            </a:b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c0c0c0"/>
                </a:solidFill>
                <a:latin typeface="Tahoma"/>
              </a:rPr>
              <a:t>object[] customPara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placementsDictionary enthält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Ersetzu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591920" indent="-26064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z.B. Key= 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"$MyParameter$"</a:t>
            </a: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, Value = </a:t>
            </a:r>
            <a:r>
              <a:rPr b="0" lang="de-DE" sz="1800" spc="-1" strike="noStrike">
                <a:solidFill>
                  <a:srgbClr val="333399"/>
                </a:solidFill>
                <a:latin typeface="Tahoma"/>
              </a:rPr>
              <a:t>"The Value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Code in RunStarted füllt Dictiona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-27468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public bool ShouldAddProjectItem(</a:t>
            </a:r>
            <a:r>
              <a:rPr b="0" lang="de-DE" sz="2400" spc="-1" strike="noStrike">
                <a:solidFill>
                  <a:srgbClr val="c0c0c0"/>
                </a:solidFill>
                <a:latin typeface="Tahoma"/>
              </a:rPr>
              <a:t>string filePath</a:t>
            </a:r>
            <a:r>
              <a:rPr b="0" lang="de-DE" sz="2400" spc="-1" strike="noStrike">
                <a:solidFill>
                  <a:srgbClr val="333399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53440" indent="-26064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rue = Datei wird hinzugefüg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4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Textersetz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blau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lass Library implementieren, Assembly sign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Tipp: Bei komplexen Wizards ggf. mehrere Assemblies mit </a:t>
            </a:r>
            <a:r>
              <a:rPr b="0" lang="de-DE" sz="2000" spc="-1" strike="noStrike">
                <a:solidFill>
                  <a:srgbClr val="333399"/>
                </a:solidFill>
                <a:latin typeface="Tahoma"/>
              </a:rPr>
              <a:t>ILMerge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zu einer zusammenfassen (</a:t>
            </a:r>
            <a:r>
              <a:rPr b="0" lang="de-DE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weniger "Müll" im Verzeichni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Laut Microsoft Dokumentation: Ablage in GA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igentlich passender: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C:\Program Files\Microsoft Visual Studio 8\Common7\IDE\PublicAssembl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lasse in .vstemplate referenz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Demo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infachen Wizard er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Zusammenfassung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Visual Studio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ject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Item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tem Templ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in oder mehrere Date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Namen müssen in vstemplate-Datei angegeben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extdateien auf Wunsch mit Textersetz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Ersetzung kann durch .NET-Code gesteuer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isual Studio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rbeit mit Visual Studio: Selten "Start bei Null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Projekte: Vorlagen für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Windows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onsol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lass Libr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Dateien: Vorlagen für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C#-Klass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Formul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932360" y="2421000"/>
            <a:ext cx="287280" cy="1728720"/>
          </a:xfrm>
          <a:custGeom>
            <a:avLst/>
            <a:gdLst>
              <a:gd name="textAreaLeft" fmla="*/ 0 w 287280"/>
              <a:gd name="textAreaRight" fmla="*/ 103680 w 2872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Project Templat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32360" y="5013360"/>
            <a:ext cx="287280" cy="1224000"/>
          </a:xfrm>
          <a:custGeom>
            <a:avLst/>
            <a:gdLst>
              <a:gd name="textAreaLeft" fmla="*/ 0 w 287280"/>
              <a:gd name="textAreaRight" fmla="*/ 103680 w 28728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de-DE" sz="1800" spc="-1" strike="noStrike">
                <a:solidFill>
                  <a:srgbClr val="000000"/>
                </a:solidFill>
                <a:latin typeface="Tahoma"/>
              </a:rPr>
              <a:t>"Item Templates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Beliebige Dateien, nicht nur Quell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spiel: Ic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atei Icon1.i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robe Vorlage in 32x32 und 16x16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Sonderbehandlung von Text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Ersetzung von Textstell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.B. abhängig vom Dateinam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uch mehrere Datei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Beispiel: Windows 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WindowsForm1.cs, WindowsForm1.Designer.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(Anm.: WindowsForm1</a:t>
            </a:r>
            <a:r>
              <a:rPr b="1" lang="de-DE" sz="2000" spc="-1" strike="noStrike">
                <a:solidFill>
                  <a:srgbClr val="000000"/>
                </a:solidFill>
                <a:latin typeface="Tahoma"/>
              </a:rPr>
              <a:t>.resx</a:t>
            </a: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 gehört nicht zum Templat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tem Template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ichts vollkommen Neues in Visual Studio 20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Konzept aus früheren Versionen bekan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Aber nun deutlich einfac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Entsprechend dem Microsoft-Trend: ZIP-Date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XML-Datei für Metadaten (.vstempla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atei(en) für das eigentliche Templ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ptional: Icon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zeige in Auswahldialog in Visual 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ch möglich: Referenz auf Icon in Pack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Zum Inhalt der ZIP-Datei später mehr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IP-Datei: Ablage in speziellem Ordn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"System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gelieferte 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z.B. Class.z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rdner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:\Program Files\Microsoft Visual Studio 8\Common7\IDE\ItemTemplates\CSharp\</a:t>
            </a: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103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1033: Englisches Visual Stu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"User"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rdner </a:t>
            </a:r>
            <a:r>
              <a:rPr b="0" i="1" lang="pt-BR" sz="24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400" spc="-1" strike="noStrike">
                <a:solidFill>
                  <a:srgbClr val="333399"/>
                </a:solidFill>
                <a:latin typeface="Tahoma"/>
              </a:rPr>
              <a:t>\Visual Studio 2005\Templates\ItemTemplates\Visual C#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Oder in Unterord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Zu beachten bei Ablage in System-Ordner: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Template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Änderungen nicht sofort wirks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ll helfen: devenv.exe /installvstempl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Geteilte Meinungen, ob es funktionie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Gefährlicher Tip: devenv.exe /set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etzt auch andere Einstellungen zurü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Sollte stets allerletztes Mittel se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Tahoma"/>
              </a:rPr>
              <a:t>(vorher Backup der Setting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Wenn nicht unbedingt nötig: Finger we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blage lieber in User-Ord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ahoma"/>
              </a:rPr>
              <a:t>In </a:t>
            </a:r>
            <a:r>
              <a:rPr b="0" i="1" lang="pt-BR" sz="28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\Visual Studio 2005\Templates\ItemTemplates</a:t>
            </a:r>
            <a:r>
              <a:rPr b="0" lang="pt-BR" sz="2800" spc="-1" strike="noStrike">
                <a:solidFill>
                  <a:srgbClr val="6c6995"/>
                </a:solidFill>
                <a:latin typeface="Tahoma"/>
              </a:rPr>
              <a:t>\Visual C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826920" y="2637000"/>
            <a:ext cx="4865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Installatio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46240" indent="-2462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In Ordner unterhalb von </a:t>
            </a:r>
            <a:r>
              <a:rPr b="0" i="1" lang="pt-BR" sz="2800" spc="-1" strike="noStrike">
                <a:solidFill>
                  <a:srgbClr val="333399"/>
                </a:solidFill>
                <a:latin typeface="Tahoma"/>
              </a:rPr>
              <a:t>My Documents</a:t>
            </a:r>
            <a:r>
              <a:rPr b="0" lang="pt-BR" sz="2800" spc="-1" strike="noStrike">
                <a:solidFill>
                  <a:srgbClr val="333399"/>
                </a:solidFill>
                <a:latin typeface="Tahoma"/>
              </a:rPr>
              <a:t>\Visual Studio 2005\Templates\ItemTemplates</a:t>
            </a:r>
            <a:r>
              <a:rPr b="0" lang="pt-BR" sz="2800" spc="-1" strike="noStrike">
                <a:solidFill>
                  <a:srgbClr val="6c6995"/>
                </a:solidFill>
                <a:latin typeface="Tahoma"/>
              </a:rPr>
              <a:t>\Visual C#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46240" indent="-246240">
              <a:spcBef>
                <a:spcPts val="700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ahoma"/>
              </a:rPr>
              <a:t>Nervig: Unterordner wird per Default markie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1400" indent="-2581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ortOrder hat keinen Einflu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822240" y="2637000"/>
            <a:ext cx="4865760" cy="29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Roland Weigelt</dc:creator>
  <dc:description/>
  <dc:language>en-US</dc:language>
  <cp:lastModifiedBy>Roland Weigelt</cp:lastModifiedBy>
  <dcterms:modified xsi:type="dcterms:W3CDTF">2006-08-23T15:34:12Z</dcterms:modified>
  <cp:revision>311</cp:revision>
  <dc:subject/>
  <dc:title>Slide 1</dc:title>
</cp:coreProperties>
</file>