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7C3F-D2EA-41C8-BA01-C69F51DA0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6C97-DEC0-456A-B79D-E4BFA1FCE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A921-6846-4EB4-A4D2-BFFA58B1E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0EEB-4468-4FF6-889A-40145E966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7CA3-CFCC-438A-8E3F-C74C71E1D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9121-C8CD-4D31-BDE8-67703B7B2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6A07-515B-44A3-B141-118FA6692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6D73-68CA-4091-AD6F-5F67B0104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CD45-8158-4F92-AEC2-44A953036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EFAE-87E0-4785-BCB1-122C173F8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6F0D-0BF8-456F-B037-38A77DC48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96FA-03DF-4F94-9DD9-2F2AD2B2E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113C-1780-43A2-8314-4999ECEEF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ontact@jens-schaller.de" TargetMode="External"/><Relationship Id="rId2" Type="http://schemas.openxmlformats.org/officeDocument/2006/relationships/hyperlink" Target="http://jens-schaller.de/" TargetMode="External"/><Relationship Id="rId3" Type="http://schemas.openxmlformats.org/officeDocument/2006/relationships/hyperlink" Target="http://jens-schaller.de/blog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deproject.com/macro/collapseall.a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 Tip: „Collapse all“ Makr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Jens Scha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contact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87640" y="292428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Größere Solutions werden im ausgeklappten Zustand schnell unübersichtlich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628640"/>
          <a:ext cx="17398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17398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llapseAl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.B. Ctrl-ä -&gt; Coll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„CollapseAll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otkeys bele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ownload: </a:t>
            </a:r>
            <a:r>
              <a:rPr b="1" lang="de-DE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odeproject.com/macro/collapseall.as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Jens Schaller</cp:lastModifiedBy>
  <dcterms:modified xsi:type="dcterms:W3CDTF">2006-07-17T20:33:20Z</dcterms:modified>
  <cp:revision>221</cp:revision>
  <dc:subject/>
  <dc:title>Slide 1</dc:title>
</cp:coreProperties>
</file>