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F20B-14CD-47B0-9EF7-FE9DF62AD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FFFC-F4D1-43D9-9CD3-3480BDB00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E315-88A9-48D6-85FC-E627CA9D4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3480-EA6F-4AF0-BDA2-B4D40BB6A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BFFF-7D0F-46AE-83EE-C1647865C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BAC2-9750-4C0F-B6EA-6FBC928C6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25B8-D92D-484E-8DE0-C90A9E340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29DB-543C-48F9-8DA4-C57E96AD4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2C1A-1206-4F64-9154-6AB2E4AD2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845A-BA7E-457E-BA31-05E0E69C7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1671-0FED-403D-9C02-9534AA365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9F48-7B81-4827-9477-2B259B1BA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BF15-DDC9-42F9-950D-C6EFAF478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ontact@jens-schaller.de" TargetMode="External"/><Relationship Id="rId2" Type="http://schemas.openxmlformats.org/officeDocument/2006/relationships/hyperlink" Target="http://jens-schaller.de/" TargetMode="External"/><Relationship Id="rId3" Type="http://schemas.openxmlformats.org/officeDocument/2006/relationships/hyperlink" Target="http://jens-schaller.de/blog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deproject.com/macro/collapseall.a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 Tip: „Collapse all“ Makr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contact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640" y="292428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Größere Solutions werden im ausgeklappten Zustand schnell unübersichtlic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628640"/>
          <a:ext cx="17398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1739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llapseAl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.B. Ctrl-ä -&gt; Coll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„CollapseAll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tkeys bele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ownload: </a:t>
            </a:r>
            <a:r>
              <a:rPr b="1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odeproject.com/macro/collapseall.as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ens Schaller</cp:lastModifiedBy>
  <dcterms:modified xsi:type="dcterms:W3CDTF">2006-07-17T20:33:20Z</dcterms:modified>
  <cp:revision>221</cp:revision>
  <dc:subject/>
  <dc:title>Slide 1</dc:title>
</cp:coreProperties>
</file>