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6CB7-52CD-4299-9170-967692B83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1A3E-86ED-489A-B3E8-D0F14DBD1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B49E-BEF7-449F-A94F-2FE251514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F9FD-2F51-4EBF-B480-67113B192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8C2F-F959-42D5-A43C-A5460DFFB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E6E7-6035-461F-AE1D-A67E731BB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AC73-B780-4853-BBAF-CCA20960A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9224-639A-4089-9E5F-A2D0781BD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E3CC-0E58-4826-9749-84A5726AD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6D02-58A1-4433-8F6A-1F2D540FA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7737-020C-4BB5-A41B-33505CDFB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0F17-2234-44AE-A382-0E1B547F0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2595-C921-4516-8EC1-68F257C21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il@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www.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weblogs.asp.net/r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eblogs.asp.net/rweigelt/archive/2006/05/16/446536.aspx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QuickTip: VS Editor Tuning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5.2006 –  Roland Weigel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3989520"/>
            <a:ext cx="8280360" cy="1595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Edito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anchmal ist der Editor etwas "zäh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lli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ippen allgemein (auffällig z.B. in Kommentar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ilft ein wenig: NavigationBar abschal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NavigationBa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enerell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nche benutzen sie ständig, andere gar nic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ch persönlich brauche sie ab und zu, will daher nicht darauf verzich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so: An/Abschalten, möglichst beque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ösung: Makr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Sub ToggleCSharpNavigationBar()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    Dim objShowNavigationBar As EnvDTE.Property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    objShowNavigationBar = DTE.Properties("TextEditor", "CSharp").Item("ShowNavigationBar")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    objShowNavigationBar.Value = Not objShowNavigationBar.Value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End Sub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NavigationBa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stall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ols -&gt; Macros -&gt; Macros 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eues Modul (Name egal, z.B. "Misc") oder Vorhande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krotext einkopi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weder Hotkey bele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ools -&gt; Options -&gt; Keybo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der Toolbar-Button defin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echte Maustaste auf Toolbar-Bereich -&gt; Custom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sführliche Beschreibung in meinem Web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eblogs.asp.net/rweigelt/archive/2006/05/16/446536.asp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[DEMO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Roland Weigelt</cp:lastModifiedBy>
  <dcterms:modified xsi:type="dcterms:W3CDTF">2006-05-16T16:29:13Z</dcterms:modified>
  <cp:revision>235</cp:revision>
  <dc:subject/>
  <dc:title>Slide 1</dc:title>
</cp:coreProperties>
</file>