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730D-F267-4089-9E40-5186D2B87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90A2-6C98-4D49-B43D-009CBA199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C6EB-FD3A-4478-A0BA-13C5F2084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C87B-1A0E-4E1B-A244-B8E803820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D020-EE84-4972-B281-F960563ED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2DA0-628E-4175-8C3B-81C79D320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E17C-964B-46BB-889F-B23F0E7C0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C57A-A3F8-4BCC-97E0-B667853C4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1072-6AD3-43FB-9BD6-DB1A4EC99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3537-DBF0-44E0-88E2-46991CE0C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D2C4-9E36-43EB-A526-9AAD2D9F8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E740-49D9-4F91-9D3B-BD5A162B7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CE6C-14B5-46D6-84AC-F7F9CFB07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logs.asp.net/rweigelt/archive/2006/05/16/446536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VS Editor Tun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Roland Weig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3989520"/>
            <a:ext cx="8280360" cy="159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dito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nchmal ist der Editor etwas "zäh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lli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ippen allgemein (auffällig z.B. in Kommentar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t ein wenig: NavigationBar absc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enerel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che benutzen sie ständig, andere gar ni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ch persönlich brauche sie ab und zu, will daher nicht darauf verzich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o: An/Abschalten, möglichst bequ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: 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Sub ToggleCSharpNavigationBar(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Dim objShowNavigationBar As EnvDTE.Property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 = DTE.Properties("TextEditor", "CSharp").Item("ShowNavigationBar"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.Value = Not objShowNavigationBar.Value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End Su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(Name egal, z.B. "Misc") oder Vorhand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Hotkey bele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Toolbar-Button defi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chte Maustaste auf Toolbar-Bereich -&gt; Custom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Beschreibung in meinem Web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eblogs.asp.net/rweigelt/archive/2006/05/16/446536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[DEMO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5-16T16:29:13Z</dcterms:modified>
  <cp:revision>235</cp:revision>
  <dc:subject/>
  <dc:title>Slide 1</dc:title>
</cp:coreProperties>
</file>