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EB1F-5A29-4CDC-9B6B-0A7A0B100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merku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arum die Vorsicht, "Objekt" zu sa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&gt; Weil die Implementation nicht notwendigerweise über Objekte erfolgen brau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020C-A8BA-441B-92C3-8407A583F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ktion aufzeichnen, in Makro-IDE den Code anschau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, dass Code verloren geht, wenn neues Makro aufgezeichnet w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 könnte den Code woanders hin kopieren (entweder Sub umbenannt im gleichen Modul, oder – sauberer – in neues Mod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Zeigen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chte Maustauste -&gt; Kontextmen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r haben aber hier schon ein etwas größeres Beispiel vorbereit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Zeigen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fruf aus Makro-Explorer hera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Zeigen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kro mit CommandBar verbinden (kennen die meisten aus Off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inweis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kros stehen als Commands zur Verfügung, aber ohne Einfluss auf die Eigenschaften, wie supported, en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ieht aus wie VB.Net, auch Nutzung von .NET-Bibliotheken, aber: ist VBA, stark aufgeboh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1EF5-84FA-4B42-A6B2-FA0615710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emo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llapseAll als Makro und als Add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 Hier werden Commands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irklich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implementiert. Eigenschaften wie supported, enabled können aktiv beeinfluss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7C08-FE2C-4AB6-BD62-E3CF389E8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dd-in erstelle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me "MyFirstAddi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reits fertige Connect.cs rüberkopieren (wg. Debug-Ausgab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bug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 VS hat bereits alle nötigen Einträge gesetz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bug-Ausgaben komment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age: Warum bzw. wie wird das Add-in überhaupt gelad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&gt; Add-i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rivia: Add-ins vor Visual Studio 2005 benötigten eine Referenz auf "Office.DLL" (die natürlich auch dann vorhanden war, wenn kein Office installiert wa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stes Verz.: "Quick-and-dirty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zard legt es dort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nell zu finden =&gt; Add-in entfer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iteren Verz.: "Bullet-proof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"Echte" Insta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566F-5B34-4BCA-9719-FBEF10CE4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CB4F-5B4D-4521-A880-C691A9EF7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stes Verz.: "Quick-and-dirty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zard legt es dort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nell zu finden =&gt; Add-in entfer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iteren Verz.: "Bullet-proof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"Echte" Insta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E484-0DE7-4EA4-B9D2-83B20E6A4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ieht aus wie VB.Net, auch Nutzung von .NET-Bibliotheken, aber: ist VBA, stark aufgeboh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4E70-399D-4616-830F-3B1C1724B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Build: Siehe Project-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PropertyGroup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TargetRegistryRoot&gt;Software\Microsoft\VisualStudio\8.0Exp&lt;/TargetRegistryRoo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RegisterOutputPackage&gt;true&lt;/RegisterOutputPackag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RegisterWithCodebase&gt;true&lt;/RegisterWithCodebas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/PropertyGroup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Import Project="$(MSBuildBinPath)\Microsoft.CSharp.targets"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Import Project="..\..\..\..\Tools\Build\Microsoft.VsSDK.targets"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0A16-BFC6-4994-AE62-461AAFAE8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den: Icon umset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n: SampleBrow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n: IronPython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einfachste Möglichkeit, das Automation Object Model und die Commands zu nutzen, sind Mak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DCAE-6E18-4656-BFB0-49F49E935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B739-F508-46FC-B614-8E4CED8FA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B217-6138-4BB2-BD2F-1AB304A75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4102-0A7A-4BC4-AE00-289006F1D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FBD4-87C9-4C52-A696-B62393C92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42FBD-DC0B-4E5A-8522-655EF8B73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0F2B-2106-44E3-9364-A60780D5E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00E4-19AE-4B2A-B124-F2F65235A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2648-E018-43D4-8C4B-809A00D50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3074-A5A7-411F-B81F-2D0FD6C97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93DC-1B45-4F9A-B358-8DD0FBA52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0D09-1343-4856-9D01-5C3CBF605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0E96-24CC-480A-A6EB-3B9B45978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BED9-DB14-4A6A-966F-6ADB171B8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214272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Makros, Add-ins, VSPackage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54160" y="363528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02.04.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ens Schaller, Roland Weig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08000" y="5951520"/>
            <a:ext cx="88930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Jens Schaller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Roland 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il@jens-schaller.de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ff"/>
                </a:solidFill>
                <a:latin typeface="Verdana"/>
              </a:rPr>
              <a:t>mail@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jens-schaller.de/blog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weblogs.asp.net/r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mand: Konzept eines "Dings", das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..ein Stück Arbeit verrichten kan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.."weiss", ob es im aktuellen Zustand des System überhaupt Sinn macht (sichtbar ja/nei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.."weiss", ob es im gerade im Moment ausführbar ist (aktiv ja/nei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ispiel: File.SaveSelectedI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o kommen Commands h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isual Studio, VSPackages, Add-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nd... Mac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mands selbst sind nicht sichtba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ie erhalten ihr User Interface über Elemente von Command Bars (Menüeinträge, Icon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 Command kann mit beliebig vielen UI-Elemente verbunden sein (z.B. "File-Save"-Eintrag, Disk-Ic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knüpfung mit GUI-Eleme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Freeform 4"/>
          <p:cNvSpPr/>
          <p:nvPr/>
        </p:nvSpPr>
        <p:spPr>
          <a:xfrm>
            <a:off x="826920" y="2349360"/>
            <a:ext cx="2159280" cy="2016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969840" y="2349360"/>
            <a:ext cx="194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av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trl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Exit</a:t>
            </a: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Alt-F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7"/>
          <p:cNvGrpSpPr/>
          <p:nvPr/>
        </p:nvGrpSpPr>
        <p:grpSpPr>
          <a:xfrm>
            <a:off x="5292720" y="2421000"/>
            <a:ext cx="2879640" cy="1368360"/>
            <a:chOff x="5292720" y="2421000"/>
            <a:chExt cx="2879640" cy="1368360"/>
          </a:xfrm>
        </p:grpSpPr>
        <p:sp>
          <p:nvSpPr>
            <p:cNvPr id="136" name="Rectangle 7"/>
            <p:cNvSpPr/>
            <p:nvPr/>
          </p:nvSpPr>
          <p:spPr>
            <a:xfrm>
              <a:off x="5292720" y="2421000"/>
              <a:ext cx="2879640" cy="1368360"/>
            </a:xfrm>
            <a:prstGeom prst="rect">
              <a:avLst/>
            </a:prstGeom>
            <a:gradFill rotWithShape="0">
              <a:gsLst>
                <a:gs pos="0">
                  <a:srgbClr val="c5dff7"/>
                </a:gs>
                <a:gs pos="100000">
                  <a:srgbClr val="6f94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8"/>
            <p:cNvSpPr/>
            <p:nvPr/>
          </p:nvSpPr>
          <p:spPr>
            <a:xfrm>
              <a:off x="5292720" y="3789360"/>
              <a:ext cx="28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9"/>
            <p:cNvSpPr/>
            <p:nvPr/>
          </p:nvSpPr>
          <p:spPr>
            <a:xfrm>
              <a:off x="5292720" y="2421000"/>
              <a:ext cx="28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6011640" y="2565360"/>
              <a:ext cx="1152360" cy="1079640"/>
            </a:xfrm>
            <a:prstGeom prst="rect">
              <a:avLst/>
            </a:prstGeom>
            <a:gradFill rotWithShape="0">
              <a:gsLst>
                <a:gs pos="0">
                  <a:srgbClr val="6464b1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6156360" y="2565360"/>
              <a:ext cx="863640" cy="43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2"/>
            <p:cNvSpPr/>
            <p:nvPr/>
          </p:nvSpPr>
          <p:spPr>
            <a:xfrm>
              <a:off x="6300720" y="3284640"/>
              <a:ext cx="576000" cy="360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3"/>
            <p:cNvSpPr/>
            <p:nvPr/>
          </p:nvSpPr>
          <p:spPr>
            <a:xfrm>
              <a:off x="6300720" y="2708280"/>
              <a:ext cx="576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4"/>
            <p:cNvSpPr/>
            <p:nvPr/>
          </p:nvSpPr>
          <p:spPr>
            <a:xfrm>
              <a:off x="6300720" y="2852640"/>
              <a:ext cx="576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AutoShape 15"/>
          <p:cNvSpPr/>
          <p:nvPr/>
        </p:nvSpPr>
        <p:spPr>
          <a:xfrm>
            <a:off x="3276720" y="5734080"/>
            <a:ext cx="3671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ae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ile.SaveSelected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>
            <a:off x="2843280" y="3357720"/>
            <a:ext cx="1873080" cy="230328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 flipH="1">
            <a:off x="5076360" y="3716280"/>
            <a:ext cx="1366920" cy="194472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7020000" y="571644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- Visi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nab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: 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hnell und einfach zu erste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rundgerüst kann über Makro-Rekorder aufgezeichnet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utzung als Proof-Of-Concept für Add-in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itreichende Kontrolle über die 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chlecht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eine "echte" Erweiterung der IDE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ur VB-Syntax unterstützt ("VBA.Net"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 vs 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erformance-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643200"/>
            <a:ext cx="6400800" cy="15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öglichkeit zur Erstellung v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Comman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ool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"echten" Programmiersprac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naged Code (C#, VB.Net,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diesem Vortrag: Managed Add-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-3560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d-in: Eine Klasse, die bestimmte Interfaces implementiert (typischer Mechanismu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6040" indent="-3560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nimal: 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IDTExtensibility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StartupComplete / OnBeginShut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onnection / OnDis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AddIns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6040" indent="-3560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Commands: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DTCommand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ryStat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bgerundete rechteckige Legende 3"/>
          <p:cNvSpPr/>
          <p:nvPr/>
        </p:nvSpPr>
        <p:spPr>
          <a:xfrm>
            <a:off x="6643800" y="3714840"/>
            <a:ext cx="2000160" cy="857160"/>
          </a:xfrm>
          <a:prstGeom prst="wedgeRoundRectCallout">
            <a:avLst>
              <a:gd name="adj1" fmla="val -50074"/>
              <a:gd name="adj2" fmla="val -24518"/>
              <a:gd name="adj3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"Life Cycle"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s Add-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bgerundete rechteckige Legende 5"/>
          <p:cNvSpPr/>
          <p:nvPr/>
        </p:nvSpPr>
        <p:spPr>
          <a:xfrm>
            <a:off x="3714840" y="5500800"/>
            <a:ext cx="4929120" cy="571320"/>
          </a:xfrm>
          <a:prstGeom prst="wedgeRoundRectCallout">
            <a:avLst>
              <a:gd name="adj1" fmla="val -60939"/>
              <a:gd name="adj2" fmla="val -18203"/>
              <a:gd name="adj3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mmands ausfü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bgerundete rechteckige Legende 6"/>
          <p:cNvSpPr/>
          <p:nvPr/>
        </p:nvSpPr>
        <p:spPr>
          <a:xfrm>
            <a:off x="3714840" y="6143760"/>
            <a:ext cx="4929120" cy="571320"/>
          </a:xfrm>
          <a:prstGeom prst="wedgeRoundRectCallout">
            <a:avLst>
              <a:gd name="adj1" fmla="val -59962"/>
              <a:gd name="adj2" fmla="val -27324"/>
              <a:gd name="adj3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mmands sichtbar/aktiv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utom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9640" indent="-3596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rundlage für programmatischen Zugriff auf Elemente von Visual Stu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9640" indent="-3596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on Office bekannt (Excel, Word, 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83080" indent="-345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rundidee: Automatisierung von Abläufen auch für "Normalsterblich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83080" indent="-345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her: Objektmodell orientiert sich nahe an Elementen der Anwendu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9640" indent="-3596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sual Studio .NET 2002: viel Code von Office übernommen (sichtbar: Menü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83080" indent="-345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isual Studio 2005: Abspaltung der Code-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Registri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XML-Datei (.add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blage in speziellem Verzeichnis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Auswertung beim Start von Visual Stu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halt: u.a. Informationen ü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zeigename, Kurzbeschreibung, I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o liegt die Add-in Assemb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elche .NET Klasse implementiert 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IDTExtensibility2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.addin fi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79280" y="157176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2440" indent="-352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?xml version="1.0" encoding="UTF-16" standalone="no"?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Extensibility xmlns="http://schemas.microsoft.com/AutomationExtensibility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HostApplica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Name&gt;Microsoft Visual Studio&lt;/Nam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Version&gt;8.0&lt;/Vers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HostApplica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ddi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FriendlyName&gt;...&lt;/FriendlyNam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Description&gt;...&lt;/Descrip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boutBoxDetails&gt;...&lt;/AboutBoxDetails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boutIconData&gt;...&lt;/AboutIconData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ssembly&gt;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yAddInAssembly.dll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Assembl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FullClassName&gt;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yAddIn.MainClass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FullClassNam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LoadBehavior&gt;0&lt;/LoadBehavior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CommandPreload&gt;1&lt;/CommandPreloa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CommandLineSafe&gt;1&lt;/CommandLineSaf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Addi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Extensibilit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4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der Theorie: Diverse Verzeichni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der Praxis: Drei relevante Verzeichni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My Documents\Visual Studio 2005\Add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D&amp;S\All Users\Application Data\MSEnvShared\Add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D&amp;S\ </a:t>
            </a:r>
            <a:r>
              <a:rPr b="0" i="1" lang="de-DE" sz="2400" spc="-1" strike="noStrike">
                <a:solidFill>
                  <a:srgbClr val="333399"/>
                </a:solidFill>
                <a:latin typeface="Tahoma"/>
              </a:rPr>
              <a:t>UserName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\Application Data\MSEnvShared\Add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42960" y="2357280"/>
            <a:ext cx="6134040" cy="19717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Registri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Tool Window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 grundlegende Fensterarten in der ID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ocument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Editoren, Des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ool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rkzeuge, Anzeige von Informatione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d-ins: Nur Tool Wind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ocument Windows: VSPack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Tool Window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osting des Tool Windows incl. Docking, etc. wird komplett von Visual Studio übernom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d-in Entwickler muss nur für Inhalt sor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halt: WinForms User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3" descr="AddInToolWindow.png"/>
          <p:cNvPicPr/>
          <p:nvPr/>
        </p:nvPicPr>
        <p:blipFill>
          <a:blip r:embed="rId1"/>
          <a:stretch/>
        </p:blipFill>
        <p:spPr>
          <a:xfrm>
            <a:off x="4643280" y="3857760"/>
            <a:ext cx="3981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Tool Window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Windows.CreateToolWindow2(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stellt ein ToolWindow und liefert ein Objekt vom Typ des UserControls zurü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myToolWindow.SetTabPicture(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etzt das Icon, das im gedockten Zustand angezeigt w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myToolWindow.Visibl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tru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eigt das ToolWindow 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Fallstrick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solute vs. relative Pfade in der .addin-Dat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absolut: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Anpassung der .addin-Datei notwendig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automatisiert nur mit MSI Installer-Klas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relativ: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Ablage der Add-in Assembly bei oder unterhalb der .addin-Date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f den ersten Blick praktische Sache, aber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nn Add-in-Assembly irgendwo unterhalb von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Documents and Setting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und dieses Verzeichnis auf Netzwerkshar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Probleme mit Securit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Fallstrick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ternationale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Vers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ddin-Pfade nur teilweise lokalisier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b ApplicationData englisch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ternationale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Vers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ehler in generiertem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ultureInfo.Name statt TwoLetterI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blem z.B. bei "Chinese Simplified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copes für Tastenbelegung nicht einheit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"Text Editor::" / "Text-Editor::" / "Editor de Texto"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45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http://weblogs.asp.net/rweigelt/archive/2006/07/16/458634.asp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hon etwas komplizierter als Mak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er: Add-ins ohne "professionelles" Setup relativ schnell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utlich weiter reichende Kontrolle über 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llerding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eine neuen Projektty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eine neuen Dokumenttypen, Editoren, Des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643200"/>
            <a:ext cx="6400800" cy="15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ispiel: Elemente in der GUI...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pic>
        <p:nvPicPr>
          <p:cNvPr id="105" name="Picture 4" descr="VisualStudio_TypicalScreen"/>
          <p:cNvPicPr/>
          <p:nvPr/>
        </p:nvPicPr>
        <p:blipFill>
          <a:blip r:embed="rId1"/>
          <a:stretch/>
        </p:blipFill>
        <p:spPr>
          <a:xfrm>
            <a:off x="285840" y="1617840"/>
            <a:ext cx="6605640" cy="4954320"/>
          </a:xfrm>
          <a:prstGeom prst="rect">
            <a:avLst/>
          </a:prstGeom>
          <a:ln w="0">
            <a:noFill/>
          </a:ln>
        </p:spPr>
      </p:pic>
      <p:grpSp>
        <p:nvGrpSpPr>
          <p:cNvPr id="106" name="Gruppieren 12"/>
          <p:cNvGrpSpPr/>
          <p:nvPr/>
        </p:nvGrpSpPr>
        <p:grpSpPr>
          <a:xfrm>
            <a:off x="357120" y="1857240"/>
            <a:ext cx="6500880" cy="4500720"/>
            <a:chOff x="357120" y="1857240"/>
            <a:chExt cx="6500880" cy="4500720"/>
          </a:xfrm>
        </p:grpSpPr>
        <p:sp>
          <p:nvSpPr>
            <p:cNvPr id="107" name="Rectangle 5"/>
            <p:cNvSpPr/>
            <p:nvPr/>
          </p:nvSpPr>
          <p:spPr>
            <a:xfrm>
              <a:off x="357120" y="1857240"/>
              <a:ext cx="6500880" cy="673920"/>
            </a:xfrm>
            <a:prstGeom prst="rect">
              <a:avLst/>
            </a:prstGeom>
            <a:solidFill>
              <a:srgbClr val="ffff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Command Ba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7120" y="2707200"/>
              <a:ext cx="4122360" cy="2548080"/>
            </a:xfrm>
            <a:prstGeom prst="rect">
              <a:avLst/>
            </a:prstGeom>
            <a:solidFill>
              <a:srgbClr val="cc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Editore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Design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560120" y="2536560"/>
              <a:ext cx="2219400" cy="2718360"/>
            </a:xfrm>
            <a:prstGeom prst="rect">
              <a:avLst/>
            </a:prstGeom>
            <a:solidFill>
              <a:srgbClr val="ccec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ahoma"/>
                </a:rPr>
                <a:t>Tool Windo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357120" y="5339520"/>
              <a:ext cx="6500880" cy="1018440"/>
            </a:xfrm>
            <a:prstGeom prst="rect">
              <a:avLst/>
            </a:prstGeom>
            <a:solidFill>
              <a:srgbClr val="ccec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lle Möglichkeiten von Makros und Add-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sätz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gene Dokumentty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gene Projektty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tegration eigener Programmiersprachen, Source Control Provider, Debug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gene Seiten in Project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"The Sky is the Limit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Entwickl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ntwicklung: Managed oder Unmanag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mpfehlung: Managed über Visual Studio SD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ährend der Entwicklung stellt SDK einen DLK (Developer Load Key) bere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LK ist notwendig, damit das Package überhaupt geladen werden kan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wendung: PLK (Package Load Key) notwendig für Betrieb ohne installiertes Visual Studio SD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ibt es kostenlos über VS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– Visual Studio SDK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ownload kosten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eilensteine (geplant: vierteljährlich) "frei" verfügb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onatliche CTPs: Nur nach Registrierung für VSIP (Visual Studio Industrial Partner) Affiliat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gistrierung und Nutzung kosten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– Visual Studio SDK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hr viele Beispie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eference Samples sehr gut und ausführlich dokumentiert (mehr Doku als C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"IronPythonIntegration" ist das größte und vollständigste Beispi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C++ muss für einige Samples installiert sein, weil der Pre-Processor verwendet w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sonsten Fehlermeldung: "Can't start preprocessor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ampleBrowser ist ein guter Einst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asis-Package: "C# Reference.Packag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Erstell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sual Studio 2005 Wiz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Other Project Types -&gt;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sual Studio Integration Pac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asis Implementierung eines Pack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sual Studio Language Pac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stellung einer eigenen Sprache unter Verwendung des Babel Language Pack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yntax Highligh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ror Ma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tatement Comple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781520" y="5572080"/>
            <a:ext cx="42195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Aufbau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ispiel: "C# Reference.Package" aus SD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Öffnen von 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BasisPackage.cs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nach dem Laden von der Solution (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Package.sl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90560" y="3557520"/>
            <a:ext cx="75628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Aufbau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79280" y="2571840"/>
            <a:ext cx="87854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lle Packages sind von 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Packag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abgeleit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iverse COM-Interfaces werden implementi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42960" y="1857240"/>
            <a:ext cx="756288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Aufbau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79280" y="2571840"/>
            <a:ext cx="87854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ackages ermöglichen die Entwicklung in eigenen Registry-Zweig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andard: 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8.0Ex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eset des Zweiges auf Defaults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45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Über Eintrag ein Startmenü</a:t>
            </a:r>
            <a:br>
              <a:rPr sz="2400"/>
            </a:b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Visual Studio 2005 SDK -&gt; 2006.09 -&gt; Reset the Visual Studio 2005 Experimental h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"C:\Program Files\Visual Studio 2005 SDK\2006.09\VisualStudioIntegration\Tools\Bin\VsRegEx.exe"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etOrig 8.0 Ex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790560" y="1857240"/>
            <a:ext cx="75628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7562880" cy="2476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Aufbau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9280" y="2571840"/>
            <a:ext cx="87854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früheren SDK Versionen mussten Ressourcen in C++ DLLs ausgelagert 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urch Setzen dieses Flags ist das nicht mehr nö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790560" y="1857240"/>
            <a:ext cx="7562880" cy="2574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Aufbau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9280" y="2571840"/>
            <a:ext cx="87854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sual Studio ist COM basiert und COM bedeutet GU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sual Studio erwartet in der Registry einen Eintrag für Packages in einem 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Packages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Zwe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ackage wird beim Build automatisch dort eingetragen (per MSBu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Wichtig: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Für PLK wird genau diese GUID benöti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...und im Objektmodel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0" t="0" r="-49" b="5329"/>
          <a:stretch/>
        </p:blipFill>
        <p:spPr>
          <a:xfrm>
            <a:off x="285840" y="1643040"/>
            <a:ext cx="7072200" cy="5214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1"/>
          <p:cNvSpPr/>
          <p:nvPr/>
        </p:nvSpPr>
        <p:spPr>
          <a:xfrm>
            <a:off x="285840" y="2106720"/>
            <a:ext cx="761760" cy="1872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500720" y="4429080"/>
            <a:ext cx="752400" cy="14292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4500720" y="5072040"/>
            <a:ext cx="771480" cy="1872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Debugg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 Debugging-Zwecken wird durch das SDK ein neuer Registry-Hive erstel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HKLM\Software\Microsoft\VisualStudio\8.0Ex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Debugg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m Debuggen in den Project-Properties die folgenden Einstellungen eintrag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Command line arguments: "/roofsuffix Exp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art external program : "Pfad zu devenv.ex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4" descr="VSPackageDebugging.png"/>
          <p:cNvPicPr/>
          <p:nvPr/>
        </p:nvPicPr>
        <p:blipFill>
          <a:blip r:embed="rId1"/>
          <a:stretch/>
        </p:blipFill>
        <p:spPr>
          <a:xfrm>
            <a:off x="2714760" y="4357800"/>
            <a:ext cx="5667120" cy="1847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stallation am Besten über VS Deployment Project (MSI-Install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SPackage wird mit Hilfe eines SDK-Tools (</a:t>
            </a: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regpkg.ex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) registr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Liegt unter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…\Visual Studio 2005 SDK\2006.09\VisualStudioIntegration\Tools\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regpkg.ex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darf nicht mit ausgeliefert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 Parameter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/regfile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önnen die Registrierinformationen in ein Registry File geschrieben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Ressourc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Studio 2005 Extensibility Webca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http://msdn.microsoft.com/vstudio/extend/webcasts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Studio Developer 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msdn.microsoft.com/vstudio/extend/webcasts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Studio 2005 SD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microsoft.com/downloads/details.aspx?FamilyId=7E0FDD66-698A-4E6A-B373-BD0642847AB7&amp;displaylang=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. Ex's Web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blogs.msdn.com/dr._ex/default.asp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SIP Members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affiliate.vsipmembers.com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3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nn einfache Automatisierung der IDE gewünscht und sichtbarer Source-Code kein Problem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Mak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nn Entwicklung in höherer Programmier-sprache erfolgen soll und Automation Model ausreichend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Add-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ür eigene Projekttypen, Editoren, Designer Debugger, Sprachen, etc.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VSPack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Fragen?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643200"/>
            <a:ext cx="6400800" cy="15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anke für's Zuhören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643200"/>
            <a:ext cx="6400800" cy="15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ieht kompliziert aus? Entwarnu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n braucht nicht alles auf einmal zu kenn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ige wenige, immer wieder auftauchende Konzep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der Prax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as klingt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für mich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interessa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as kann ich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jetz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brauch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ieles unabhängig voneina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sicht auf der MSDN Webs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msdn2.microsoft.com/en-us/library/za2b25t3(VS.80).asp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ispie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TE (bzw. DTE2) ist das Root-Objek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runter: Documents-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rcRect l="59864" t="50702" r="15432" b="36821"/>
          <a:stretch/>
        </p:blipFill>
        <p:spPr>
          <a:xfrm>
            <a:off x="1116000" y="3300480"/>
            <a:ext cx="581508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itere interessante Beispie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griff auf Solutions und Projek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Solu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Projec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ProjectI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griff auf Sprachelemente in Quellco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FileCodeMode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CodeVariabl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CodeFunc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griff auf Tool-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CommandWindow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TaskLis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OutputWindow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griff auf den Debug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Debugg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Proces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Program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StackFram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Makro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 "DOS-Zeiten": Tastaturmak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kro = Abfolge von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gedrückten Taste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eute: Auto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kro = Abfolge von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Funktionsaufruf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ein Unterschied zwischen "Live-Aufzeichnung" und geschriebenem Programmc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03920" indent="-2646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snahmen: Aufrufe einiger Dialo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ür nahezu jede Aktion in der Anwendung gibt es eine entsprechende Funktion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enauer: Ein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Com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;Jens Schaller</dc:creator>
  <dc:description/>
  <dc:language>en-US</dc:language>
  <cp:lastModifiedBy>Roland Weigelt</cp:lastModifiedBy>
  <dcterms:modified xsi:type="dcterms:W3CDTF">2007-04-05T11:04:44Z</dcterms:modified>
  <cp:revision>650</cp:revision>
  <dc:subject/>
  <dc:title>Slide 1</dc:title>
</cp:coreProperties>
</file>