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FEE1-40B8-4B24-96EF-BD4052E5C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se Fo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CFC4-2001-4376-ADA7-CA137FF42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5A1D-CD43-4D81-8107-91A0F2A54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F583-F2D6-431F-B3BD-44F45E3E0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213C-BF43-4B77-AC2B-3FA775B03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F32E-F503-40AE-B285-5A95D6073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116B-5C00-4E30-8127-CCC26E940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FA7F-DDC2-4726-81D5-BC8ED9536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D4F8-BF15-448C-9F50-A0F3E873E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8D09-930F-4426-A5AB-28573C409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8758-F464-4DF0-B606-23C7EBA44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E2DB-D4D0-4D24-8DDA-E82EC1A0C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6EE7-55F3-4B35-B1F9-3F624A8D7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98CC-2648-4C2E-8CE9-C91C9152B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il@jens-schaller.de" TargetMode="External"/><Relationship Id="rId2" Type="http://schemas.openxmlformats.org/officeDocument/2006/relationships/hyperlink" Target="mailto:mail@roland-weigelt.de" TargetMode="External"/><Relationship Id="rId3" Type="http://schemas.openxmlformats.org/officeDocument/2006/relationships/hyperlink" Target="http://jens-schaller.de/blog" TargetMode="External"/><Relationship Id="rId4" Type="http://schemas.openxmlformats.org/officeDocument/2006/relationships/hyperlink" Target="http://weblogs.asp.net/rweigelt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ual Studio 2005</a:t>
            </a:r>
            <a:br>
              <a:rPr sz="3600"/>
            </a:b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anpassen und erweitern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54160" y="363528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02.04.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ens Schaller, Roland Weig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Jens Schaller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Roland 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mail@jens-schaller.d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http://jens-schaller.de/blo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http://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Über u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14360" y="1785960"/>
            <a:ext cx="678636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19680" indent="-319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Jens Scha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9680" indent="-31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log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ttp://jens-schaller.de/b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9680" indent="-31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ttp://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onicfilefind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jens-schaller.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9680" indent="-31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il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il@jens-schaller.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9680" indent="-31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2" descr="Roland Weigelt"/>
          <p:cNvPicPr/>
          <p:nvPr/>
        </p:nvPicPr>
        <p:blipFill>
          <a:blip r:embed="rId1"/>
          <a:stretch/>
        </p:blipFill>
        <p:spPr>
          <a:xfrm>
            <a:off x="608040" y="4286160"/>
            <a:ext cx="1333440" cy="1762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2214720" y="4214880"/>
            <a:ext cx="6858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Roland Weig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log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ttp://weblogs.asp.net/rweig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o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ttp://www.roland-weigelt.de/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hostdoc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i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il@roland-weigelt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Jens Schaller"/>
          <p:cNvPicPr/>
          <p:nvPr/>
        </p:nvPicPr>
        <p:blipFill>
          <a:blip r:embed="rId2"/>
          <a:stretch/>
        </p:blipFill>
        <p:spPr>
          <a:xfrm>
            <a:off x="608040" y="1928880"/>
            <a:ext cx="133344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um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anpassen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ersönliche Vorlieben für Farben, Schriftarten, Fensteranordnu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terschiedliche Anforderungen je nach Arbeitsschwerpunk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sual Studio 2005 enthält mehr Features, als in der GUI gleichzeitig sinnvoll dargestellt werden könn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um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erweitern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achrüsten fehlender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ypisch: Tools, die aus der täglichen Arbeit heraus entstanden si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sual Studio als Platt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gration weiterer Programmiersprac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.B. IronPyth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gration von komplexen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.B. Platform Builder für Windows CE 6.0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zum Erzeugen von spezialisierten OS-Version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.B. XNA (Entwicklung von XBox-Spielen in Managed C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pic>
        <p:nvPicPr>
          <p:cNvPr id="112" name="Content Placeholder 3" descr=""/>
          <p:cNvPicPr/>
          <p:nvPr/>
        </p:nvPicPr>
        <p:blipFill>
          <a:blip r:embed="rId1"/>
          <a:stretch/>
        </p:blipFill>
        <p:spPr>
          <a:xfrm>
            <a:off x="208080" y="1620720"/>
            <a:ext cx="872784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blauf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de Snipp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Templ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&lt;Pause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Pack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;Jens Schaller</dc:creator>
  <dc:description/>
  <dc:language>en-US</dc:language>
  <cp:lastModifiedBy>Roland Weigelt</cp:lastModifiedBy>
  <dcterms:modified xsi:type="dcterms:W3CDTF">2007-04-05T11:03:43Z</dcterms:modified>
  <cp:revision>547</cp:revision>
  <dc:subject/>
  <dc:title>Slide 1</dc:title>
</cp:coreProperties>
</file>