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64A7-4960-40A2-96A1-A519FFCB4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ipp: Bei komplexen Wizards ggf. mehrere Assemblies mit </a:t>
            </a:r>
            <a:r>
              <a:rPr b="0" lang="de-DE" sz="1200" spc="-1" strike="noStrike">
                <a:solidFill>
                  <a:srgbClr val="333399"/>
                </a:solidFill>
                <a:latin typeface="Arial"/>
              </a:rPr>
              <a:t>ILMerg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zu einer zusammenfassen (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weniger "Müll" im Verzeichn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9D64-EC1E-4311-B16D-CCC9FE97D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l: "Visual Studio Content Installer Power Toys" (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scheinend nicht mehr gepfleg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7171-785D-4E55-B85F-D83BDAF24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i der täglichen Arbeit mit Visual Studio startet man selten komplett "bei Null", sondern verwendet Vorlagen für Projekte und Projektelem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5E20-AF2A-4EA4-858D-34F5900CE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orsicht: Template Ca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0480-C4DC-4B83-88E4-4A0623606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A2568-68EF-4239-887F-39C89432C6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7FB85-7869-4CF9-868D-AE8DA66639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F3B72-8159-4E3D-A25C-D2699248D4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964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000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928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964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000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2F736-DD60-44C8-A6F7-4B2E21C681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9280" y="691920"/>
            <a:ext cx="8785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637A6-A939-4A7F-BD2D-04A3E45A72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4964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000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928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4964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000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D1768-88C9-4850-B283-6B49D11B4C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18ABF-593A-4D26-8E70-C0C4A4AFA1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8C03A-03FD-4779-AB66-3867B9F619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9280" y="691920"/>
            <a:ext cx="8785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78852-31AA-4805-A0BA-87E6739705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8476F-F429-4B9E-9DF7-BF11EB4B78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A9554-DDC2-4833-99ED-CCD34D75EB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6AFD0-AA69-4D10-B180-09240DE7C5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36680" indent="-26172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Text Box 19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4446-F68C-4C0C-A65F-75CE9C1DD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5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1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36680" indent="-26172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ail@jens-schaller.de" TargetMode="External"/><Relationship Id="rId2" Type="http://schemas.openxmlformats.org/officeDocument/2006/relationships/hyperlink" Target="mailto:mail@roland-weigelt.de" TargetMode="External"/><Relationship Id="rId3" Type="http://schemas.openxmlformats.org/officeDocument/2006/relationships/hyperlink" Target="http://jens-schaller.de/blog" TargetMode="External"/><Relationship Id="rId4" Type="http://schemas.openxmlformats.org/officeDocument/2006/relationships/hyperlink" Target="http://weblogs.asp.net/rweigelt" TargetMode="External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920" y="2142720"/>
            <a:ext cx="8713800" cy="142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Visual Studio Templates 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54160" y="3635280"/>
            <a:ext cx="683568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02.04.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Roland Weige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08000" y="5951520"/>
            <a:ext cx="88930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Jens Schaller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Roland Weige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4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mail@jens-schaller.de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mail@roland-weigelt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Weblog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 u="sng">
                <a:solidFill>
                  <a:srgbClr val="0000ff"/>
                </a:solidFill>
                <a:uFillTx/>
                <a:latin typeface="Verdana"/>
                <a:hlinkClick r:id="rId3"/>
              </a:rPr>
              <a:t>http://jens-schaller.de/blog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 u="sng">
                <a:solidFill>
                  <a:srgbClr val="0000ff"/>
                </a:solidFill>
                <a:uFillTx/>
                <a:latin typeface="Verdana"/>
                <a:hlinkClick r:id="rId4"/>
              </a:rPr>
              <a:t>http://weblogs.asp.net/rweige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extersetz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orgegebene Template-Parameter (Forts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$clrversion$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</a:rPr>
              <a:t>$GUID1$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800" spc="-1" strike="noStrike">
                <a:solidFill>
                  <a:srgbClr val="333399"/>
                </a:solidFill>
                <a:latin typeface="Tahoma"/>
              </a:rPr>
              <a:t>$GUID2$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, ... </a:t>
            </a:r>
            <a:r>
              <a:rPr b="0" lang="de-DE" sz="2800" spc="-1" strike="noStrike">
                <a:solidFill>
                  <a:srgbClr val="333399"/>
                </a:solidFill>
                <a:latin typeface="Tahoma"/>
              </a:rPr>
              <a:t>$GUID10$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$machinename$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$registeredorganization$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</a:rPr>
              <a:t>$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ime$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DD/MM/YYYY 00:00: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$userdomain$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$username$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$year$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YYY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extersetz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9640" indent="-3596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Zusätzlich: Eigene Parame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59640" indent="-3596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öglichkeit 1: </a:t>
            </a: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Custom Parame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59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59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&lt;TemplateConten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59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59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&lt;CustomParameters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59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&lt;CustomParameter Name="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$MyParameter1$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" Value="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MyValue1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" /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59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&lt;CustomParameter Name="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$MyParameter2$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" Value="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MyValue2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" /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59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&lt;/CustomParameters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59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&lt;/TemplateConten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59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59640" indent="-3596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tatische Ersetz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extersetz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öglichkeit 2 (dynamisch): </a:t>
            </a: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Wiz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ier: "Wizard" == C#-Klasse, die </a:t>
            </a: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IWizard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implemen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space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Microsoft.VisualStudio.TemplateWiz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ssembly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Microsoft.VisualStudio.TemplateWizard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Nicht notwendigerweise GUI involvier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uch "Wizards" ohne GUI denkbar, z.B. Ersatz für "</a:t>
            </a:r>
            <a:r>
              <a:rPr b="0" lang="de-DE" sz="2800" spc="-1" strike="noStrike">
                <a:solidFill>
                  <a:srgbClr val="333399"/>
                </a:solidFill>
                <a:latin typeface="Tahoma"/>
              </a:rPr>
              <a:t>$time$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" (mit eigenem Zeitforma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Wizard: Implementa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ispiel Item Templ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ublic void RunStarted(</a:t>
            </a:r>
            <a:br>
              <a:rPr sz="2800"/>
            </a:b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object automationObject,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ctionary&lt;string, string&gt; replacementsDictionary,</a:t>
            </a:r>
            <a:br>
              <a:rPr sz="2800"/>
            </a:b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WizardRunKind runKind,</a:t>
            </a:r>
            <a:br>
              <a:rPr sz="2800"/>
            </a:b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object[] customParam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</a:rPr>
              <a:t>public bool ShouldAddProjectItem(</a:t>
            </a:r>
            <a:r>
              <a:rPr b="0" lang="de-DE" sz="2800" spc="-1" strike="noStrike">
                <a:solidFill>
                  <a:srgbClr val="c0c0c0"/>
                </a:solidFill>
                <a:latin typeface="Tahoma"/>
              </a:rPr>
              <a:t>string filePath</a:t>
            </a:r>
            <a:r>
              <a:rPr b="0" lang="de-DE" sz="28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Abgerundete rechteckige Legende 3"/>
          <p:cNvSpPr/>
          <p:nvPr/>
        </p:nvSpPr>
        <p:spPr>
          <a:xfrm>
            <a:off x="6643800" y="4143240"/>
            <a:ext cx="2143080" cy="1000440"/>
          </a:xfrm>
          <a:prstGeom prst="wedgeRoundRectCallout">
            <a:avLst>
              <a:gd name="adj1" fmla="val -22884"/>
              <a:gd name="adj2" fmla="val -79254"/>
              <a:gd name="adj3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wird in </a:t>
            </a:r>
            <a:r>
              <a:rPr b="0" lang="de-DE" sz="1400" spc="-1" strike="noStrike">
                <a:solidFill>
                  <a:srgbClr val="333399"/>
                </a:solidFill>
                <a:latin typeface="Tahoma"/>
              </a:rPr>
              <a:t>RunStarted(...)</a:t>
            </a: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 gefüllt, z.B. m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Key= </a:t>
            </a:r>
            <a:r>
              <a:rPr b="0" lang="de-DE" sz="1400" spc="-1" strike="noStrike">
                <a:solidFill>
                  <a:srgbClr val="333399"/>
                </a:solidFill>
                <a:latin typeface="Tahoma"/>
              </a:rPr>
              <a:t>"$MyParameter$"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Value = </a:t>
            </a:r>
            <a:r>
              <a:rPr b="0" lang="de-DE" sz="1400" spc="-1" strike="noStrike">
                <a:solidFill>
                  <a:srgbClr val="333399"/>
                </a:solidFill>
                <a:latin typeface="Tahoma"/>
              </a:rPr>
              <a:t>"The Valu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bgerundete rechteckige Legende 4"/>
          <p:cNvSpPr/>
          <p:nvPr/>
        </p:nvSpPr>
        <p:spPr>
          <a:xfrm>
            <a:off x="1071720" y="6000840"/>
            <a:ext cx="2000160" cy="785880"/>
          </a:xfrm>
          <a:prstGeom prst="wedgeRoundRectCallout">
            <a:avLst>
              <a:gd name="adj1" fmla="val -22884"/>
              <a:gd name="adj2" fmla="val -79254"/>
              <a:gd name="adj3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99"/>
                </a:solidFill>
                <a:latin typeface="Tahoma"/>
              </a:rPr>
              <a:t>true</a:t>
            </a: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 : Datei wird zum Projekt hinzugefüg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Wizard: Arbeitsablauf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lass Library erstel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lasse mit IWizard Interface implementi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ssembly signie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Laut Microsoft Dokumentation: Ablage in GA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esser: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:\Program Files\Microsoft Visual Studio 8\Common7\IDE\PublicAssembl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Klasse in .vstemplate referenzie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Public Key Token nicht vergessen (</a:t>
            </a:r>
            <a:r>
              <a:rPr b="0" lang="de-DE" sz="2800" spc="-1" strike="noStrike">
                <a:solidFill>
                  <a:srgbClr val="333399"/>
                </a:solidFill>
                <a:latin typeface="Tahoma"/>
              </a:rPr>
              <a:t>sn –T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feld 3"/>
          <p:cNvSpPr/>
          <p:nvPr/>
        </p:nvSpPr>
        <p:spPr>
          <a:xfrm>
            <a:off x="228600" y="5929200"/>
            <a:ext cx="188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69200"/>
                </a:solidFill>
                <a:latin typeface="Verdana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ploymen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anuell: ZIP-Datei kopie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ür viele Zwecke vollkommen ausreich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isual Studio Content Installer (.vs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SI: (umbenanntes) ZIP, enthält Template sowie .vscontent für Metadaten (XML-Date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Klassisch: Installation über M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vtl. "professionelleres" Ausseh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ehr Möglichkeiten, z.B. eigener Code in Installer-Klass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2160" y="3286080"/>
            <a:ext cx="777240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Fragen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Templat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6040" indent="-3560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roject Templ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74080" indent="-3420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indows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74080" indent="-3420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Consol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74080" indent="-3420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Class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74080" indent="-3420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56040" indent="-3560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tem Templ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74080" indent="-3420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lass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74080" indent="-3420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74080" indent="-3420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ormul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74080" indent="-3420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5214960" y="1693800"/>
            <a:ext cx="3567240" cy="2592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5219640" y="4429080"/>
            <a:ext cx="356724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Templat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ie so vieles bei Microsoft: ZIP-Date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n speziellem Verzeichnis abgeleg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nhal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XML-Datei mit Endung ".vstemplate" mit Metada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con für Darstellung in "Add New..." Dialo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tei(en) für Projekt bzw. Projekt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Optionale Featur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rsetzung von Strings in Textdatei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ufruf von eigenem Code beim Hinzufü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blage der mitgelieferten Templat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7240" indent="-3272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tem Templat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02800" indent="-31428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Ordner unterhalb von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:\Program Files\Microsoft Visual Studio 8\Common7\IDE\ItemTempl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2800" indent="-31428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z.B. Class.zip in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Sharp\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10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7240" indent="-3272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roject Templ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734400" indent="-3272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Ordner unterhalb von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:\Program Files\Microsoft Visual Studio 8\Common7\IDE\ProjectTempl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734400" indent="-3272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z.B. WindowsApplication.zip in </a:t>
            </a:r>
            <a:r>
              <a:rPr b="0" lang="de-DE" sz="2800" spc="-1" strike="noStrike">
                <a:solidFill>
                  <a:srgbClr val="333399"/>
                </a:solidFill>
                <a:latin typeface="Tahoma"/>
              </a:rPr>
              <a:t>CSharp\Windows\10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2800" indent="-31428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Nach Änderungen: </a:t>
            </a:r>
            <a:r>
              <a:rPr b="0" lang="de-DE" sz="2800" spc="-1" strike="noStrike">
                <a:solidFill>
                  <a:srgbClr val="333399"/>
                </a:solidFill>
                <a:latin typeface="Tahoma"/>
              </a:rPr>
              <a:t>devenv.exe /InstallVSTempl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2800" indent="-31428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Abgerundete rechteckige Legende 3"/>
          <p:cNvSpPr/>
          <p:nvPr/>
        </p:nvSpPr>
        <p:spPr>
          <a:xfrm>
            <a:off x="6643800" y="3357720"/>
            <a:ext cx="1928880" cy="500040"/>
          </a:xfrm>
          <a:prstGeom prst="wedgeRoundRectCallout">
            <a:avLst>
              <a:gd name="adj1" fmla="val -92023"/>
              <a:gd name="adj2" fmla="val -39722"/>
              <a:gd name="adj3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US-Version von Visual Stu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blage von eigenen Templat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tem Templ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Ordner unterhalb von </a:t>
            </a:r>
            <a:r>
              <a:rPr b="0" i="1" lang="pt-BR" sz="2800" spc="-1" strike="noStrike">
                <a:solidFill>
                  <a:srgbClr val="333399"/>
                </a:solidFill>
                <a:latin typeface="Tahoma"/>
              </a:rPr>
              <a:t>My Documents</a:t>
            </a:r>
            <a:r>
              <a:rPr b="0" lang="pt-BR" sz="2800" spc="-1" strike="noStrike">
                <a:solidFill>
                  <a:srgbClr val="333399"/>
                </a:solidFill>
                <a:latin typeface="Tahoma"/>
              </a:rPr>
              <a:t>\Visual Studio 2005\Templates\ItemTempl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z.B. </a:t>
            </a:r>
            <a:r>
              <a:rPr b="0" lang="pt-BR" sz="2800" spc="-1" strike="noStrike">
                <a:solidFill>
                  <a:srgbClr val="333399"/>
                </a:solidFill>
                <a:latin typeface="Tahoma"/>
              </a:rPr>
              <a:t>Visual C#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ject Templ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Ordner unterhalb von </a:t>
            </a:r>
            <a:r>
              <a:rPr b="0" i="1" lang="pt-BR" sz="2800" spc="-1" strike="noStrike">
                <a:solidFill>
                  <a:srgbClr val="333399"/>
                </a:solidFill>
                <a:latin typeface="Tahoma"/>
              </a:rPr>
              <a:t>My Documents</a:t>
            </a:r>
            <a:r>
              <a:rPr b="0" lang="pt-BR" sz="2800" spc="-1" strike="noStrike">
                <a:solidFill>
                  <a:srgbClr val="333399"/>
                </a:solidFill>
                <a:latin typeface="Tahoma"/>
              </a:rPr>
              <a:t>\Visual Studio 2005\Templates\ProjectTempl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Eigene Templates erstell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tartpunkt: Export Wiz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ile -&gt; Export Templ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143000" y="2928960"/>
            <a:ext cx="2900520" cy="2566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4643280" y="2928960"/>
            <a:ext cx="2900520" cy="2566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3"/>
          <a:stretch/>
        </p:blipFill>
        <p:spPr>
          <a:xfrm>
            <a:off x="2286000" y="3929040"/>
            <a:ext cx="2900520" cy="2567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4"/>
          <a:stretch/>
        </p:blipFill>
        <p:spPr>
          <a:xfrm>
            <a:off x="5715000" y="3929040"/>
            <a:ext cx="2900520" cy="2567160"/>
          </a:xfrm>
          <a:prstGeom prst="rect">
            <a:avLst/>
          </a:prstGeom>
          <a:ln w="0">
            <a:noFill/>
          </a:ln>
        </p:spPr>
      </p:pic>
      <p:sp>
        <p:nvSpPr>
          <p:cNvPr id="112" name="Textfeld 7"/>
          <p:cNvSpPr/>
          <p:nvPr/>
        </p:nvSpPr>
        <p:spPr>
          <a:xfrm>
            <a:off x="228600" y="5929200"/>
            <a:ext cx="188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69200"/>
                </a:solidFill>
                <a:latin typeface="Verdana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.vstemplate-Datei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9640" indent="-3596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Root-Tag </a:t>
            </a: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&lt;VSTemplate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83080" indent="-3456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ype = "Project" oder "Item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59640" indent="-3596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etadaten in </a:t>
            </a: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&lt;TemplateData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83080" indent="-3456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Name, Beschreibung etc. für Auswahldi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59640" indent="-3596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halte in </a:t>
            </a: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&lt;TemplateContent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83080" indent="-3456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Referen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83080" indent="-3456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Projek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83080" indent="-3456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Projektelem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59640" indent="-359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59640" indent="-359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Referenz aller Tags in MSDN Library unter "Visual Studio Template Schema Reference"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59640" indent="-359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(Tipp: Suchbegriff mit Anführungszeichen eingebe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extersetz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1640" indent="-3416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ät durch Ersetzung bestimmter Tex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namespace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$rootnamespace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lass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$safeitemname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c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$safeitemname$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extersetz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uss explizit aktiviert wer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ProjectItem ... ReplaceParameters="true"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orgegeben u.a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$itemname$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exakt wie angegebe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$safeitemname$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als Identifier geeig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$projectname$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exakt wie angegebe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$safeprojectname$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als Identifier geeig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$rootnamespace$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wie im Projekt angegebe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Referenz in MSDN-Library unter: "Template Parameters"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oland Weigelt;Jens Schaller</dc:creator>
  <dc:description/>
  <dc:language>en-US</dc:language>
  <cp:lastModifiedBy>Roland Weigelt</cp:lastModifiedBy>
  <dcterms:modified xsi:type="dcterms:W3CDTF">2007-04-05T11:04:25Z</dcterms:modified>
  <cp:revision>596</cp:revision>
  <dc:subject/>
  <dc:title>Slide 1</dc:title>
</cp:coreProperties>
</file>