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967E-0FE2-4C7A-80F0-726E2186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Einfügen eines Snip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m nächsten F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hift+Ta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m Vorhergeh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chließt das Editieren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95A9-B1EC-472C-B0A0-C9A73C91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rtige Code Snippets installieren -&gt; per MySnippetInstaller.v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de Snippet anw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nippet-Snippet zei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nippet Code kurz erläu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BB6-2C2C-4D17-96E6-A42E13FF3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005D-D4DC-4947-B006-03630DE19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21F7-D0B8-4551-93E4-856ED9EC2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FDF0-6C20-4FC2-B0FB-638A97268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CCEC-8CC1-4F41-9826-190A2EE86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7C33-CF34-4303-8416-E480056DA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B229-9FA1-4AAD-99EE-9D79F4D13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79A0-FA2D-45E1-8FEF-F0B8B8A79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F269-F411-48B0-927B-EA29DCE77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721D-3912-4B61-A6EF-DDED1CCA5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FE06-A3F3-4271-B45D-6AFB6730D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0E6C-4559-4C92-8CA4-CCB1419C5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E22C-53DF-466C-A7EA-5C6631ACE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B13B-3559-45DF-8102-253150B7C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il@jens-schaller.de" TargetMode="External"/><Relationship Id="rId2" Type="http://schemas.openxmlformats.org/officeDocument/2006/relationships/hyperlink" Target="mailto:mail@roland-weigelt.de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hyperlink" Target="http://weblogs.asp.net/rweigelt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71418(en-us,vs.80).asp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242311(VS.80).asp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tcodesnippets.com/default.aspx" TargetMode="External"/><Relationship Id="rId2" Type="http://schemas.openxmlformats.org/officeDocument/2006/relationships/hyperlink" Target="http://msdn.microsoft.com/vstudio/downloads/codesnippets/default.aspx" TargetMode="External"/><Relationship Id="rId3" Type="http://schemas.openxmlformats.org/officeDocument/2006/relationships/hyperlink" Target="http://weblogs.asp.net/rweigelt/category/10077.aspx" TargetMode="External"/><Relationship Id="rId4" Type="http://schemas.openxmlformats.org/officeDocument/2006/relationships/hyperlink" Target="http://jens-schaller.de/blog/category/vs_2005/index.ht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Code Snippet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02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Snippets - the whole enchil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tp://jens-schaller.de/nc/blog/blogsingle/archive/2006/february/article/code-snippets-the-whole-enchilada/index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Snippets revis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http://jens-schaller.de/articles/code-snippets-revisited/index.htm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igating Code Snippet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http://msdn.microsoft.com/library/default.asp?url=/library/en-us/dnvs05/html/codesnippets.as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Snippets Schema Refer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http://msdn2.microsoft.com/en-us/library/ms171418%28en-us,vs.80%29.asp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sind Code Snippets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de Snippets (CS) sind Textblöcke mit wiederverwendbare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atischer Text + Platzhal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42920" y="3701880"/>
            <a:ext cx="3657600" cy="237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4700520" y="3730680"/>
            <a:ext cx="4229280" cy="2270160"/>
          </a:xfrm>
          <a:prstGeom prst="rect">
            <a:avLst/>
          </a:prstGeom>
          <a:ln w="0">
            <a:noFill/>
          </a:ln>
        </p:spPr>
      </p:pic>
      <p:sp>
        <p:nvSpPr>
          <p:cNvPr id="106" name="Right Arrow 9"/>
          <p:cNvSpPr/>
          <p:nvPr/>
        </p:nvSpPr>
        <p:spPr>
          <a:xfrm>
            <a:off x="3643200" y="4357800"/>
            <a:ext cx="1071720" cy="6429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gen eines Code Snipp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Shortcut des Snipp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hortcut eingeben (z.B.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prop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Tab, 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014640" y="3643200"/>
            <a:ext cx="54864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gen eines Code Snipp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„Snippet GUI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Ctrl+K, Ctrl+X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der per Menü über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Edit – Intellisense – Insert Snippet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 Bedarf mit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Tab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die nächste Menüeb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nn Cursor auf Snippet, mit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Tab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einfü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500720" y="4357800"/>
            <a:ext cx="36813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bau von Code Snipp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?xml version="1.0" encoding="utf-8" ?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CodeSnippets  xmlns="http://schemas.microsoft.com/VisualStudio/2005/CodeSnippet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CodeSnippet Format="1.0.0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Title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oolean property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Titl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Shortcut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p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Shortcut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Description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de snippet for a boolean property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Description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Author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oland Weigelt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Autho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de-DE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de-DE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&lt;SnippetsType&gt;&lt;/SnippetsTyp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</a:rPr>
              <a:t>&lt;/Head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</a:rPr>
              <a:t>&lt;Snippet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Declarations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Literal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ID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operty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ID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ToolTip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operty name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ToolTip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Default&g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yProperty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Default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&lt;/Literal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/Declarations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Code Language="csharp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private bool m_b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$property$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public bool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$property$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get { return m_b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$property$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;}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set { m_b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$property$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 = value;}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cc3300"/>
                </a:solidFill>
                <a:latin typeface="Tahoma"/>
              </a:rPr>
              <a:t>$end$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/Cod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ff"/>
                </a:solidFill>
                <a:latin typeface="Tahoma"/>
              </a:rPr>
              <a:t>&lt;/Snippet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/CodeSnippet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/CodeSnippets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rstellen von Code Snipp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 XML-/Text-Edit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ehe </a:t>
            </a:r>
            <a:r>
              <a:rPr b="0" lang="de-DE" sz="2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Code Snippets Schema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pp: Das snippet-Snipp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3419640" y="4162320"/>
            <a:ext cx="4581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 von Code Snipp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de Snippets Manager (im Tools-Menü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zu empfeh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uell: .snippet Datei kop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My Documents\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isual Studio 2005\Code Snippets\Visual C#\My Code Snipp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de Snippets werden automatisch erkan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Content Installer (.v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msdn2.microsoft.com/en-us/library/ms242311(VS.80).aspx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ertige Code Snipp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otCodeSnippets.net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www.gotcodesnippets.com/default.asp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8840" indent="-34884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isual Studio 2005 Code Snippets – Microsoft</a:t>
            </a:r>
            <a:br>
              <a:rPr sz="2400"/>
            </a:b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http://msdn.microsoft.com/vstudio/downloads/codesnippets/default.asp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8840" indent="-34884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oland Weigelt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de-DE" sz="1600" spc="-1" strike="noStrike" u="sng">
                <a:solidFill>
                  <a:srgbClr val="0000ff"/>
                </a:solidFill>
                <a:uFillTx/>
                <a:latin typeface="Tahoma"/>
                <a:hlinkClick r:id="rId3"/>
              </a:rPr>
              <a:t>http://weblogs.asp.net/rweigelt/category/10077.aspx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8840" indent="-34884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de-DE" sz="1600" spc="-1" strike="noStrike" u="sng">
                <a:solidFill>
                  <a:srgbClr val="0000ff"/>
                </a:solidFill>
                <a:uFillTx/>
                <a:latin typeface="Tahoma"/>
                <a:hlinkClick r:id="rId4"/>
              </a:rPr>
              <a:t>http://jens-schaller.de/blog/category/vs_2005/index.htm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8840" indent="-34884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3286080"/>
            <a:ext cx="777240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7-04-05T11:04:05Z</dcterms:modified>
  <cp:revision>566</cp:revision>
  <dc:subject/>
  <dc:title>Slide 1</dc:title>
</cp:coreProperties>
</file>